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44F-B36E-4796-B42E-50030988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CFF-36EB-4903-B6D0-7546E8D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23AD3-935D-4B1D-BECD-06E30139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96526-7656-44F3-881A-D8246C4B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200B4-5303-4F94-8CDD-2C352BEE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C5CEA-6964-484F-8329-08B22082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55680-62C6-491C-AF57-841C2C25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94BB3-3A67-406F-9B1A-0BB5511D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984EC-E0C0-455C-B016-596A2011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4CCA3-82B8-406A-8C4B-7934BF90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2A4F2-8945-4BEA-AF99-27E019E8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DD511-217A-4ECA-B842-72C6E712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E01-5869-492D-A4E1-BD082725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812E9-9AEA-48B5-B696-A5429B10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4E2DC-4AAE-4F17-9545-F06D5B3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F07A1-EABF-4EB0-B109-131FCD24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8BD63-343B-43AE-9EC1-D7F02E39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8CF86-08F0-4D88-B54D-F803069A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295FD-CE53-419A-97DD-AB18F3C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C5AB2-BC54-4402-9191-DE39DE62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F51EE-B160-42C9-ACEB-41FEFE7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B680E-D2FB-4B0D-A37B-2D61818F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3CA80-32FD-4CD4-8C24-9F35D2B3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E34-0F5C-4EF2-8BF2-3DEE6617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E9E42-444A-4684-AC2F-05B6C532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28E5F-2E3B-421A-87B1-7C93EE58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BAD8D-95C0-40D4-A527-7A58DAF6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05F91-3AA9-483C-9B45-1ACEE8EF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9629D-95DE-4B92-A809-BB0E6EAD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25667-CEED-411D-9A80-8ED0CEB5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72ADA-1B25-4F4D-879A-3A49BAF6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398C7-B9BF-4033-AE3E-6BD670AF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AF52B-4320-4C9D-AA0C-E5346D51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97060-4B95-4E8E-BD31-AC5320C7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EFE8-14EE-4004-9C4D-3E0BA897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CB104-4408-47A0-8E4C-F72174D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AA559-C004-4CEB-BFDF-4C1CF4EC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7E8A7-74BB-4A60-894C-A49DF3BB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D562C-673A-4BDA-AFA1-72407A84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75719-1697-4B06-B9FF-5CE5C77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F48B1-3FF9-4CB5-BB1C-F43C5A5B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5C30A-94B2-4D93-A27E-B5E1DDEA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9EF46-749A-4C66-B9B0-BDB37A45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18567-0671-4252-8B9A-67319723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93784-9B78-4D6A-A2D1-17F1B738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4511-D290-404E-A064-896AF961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6EDA1-2D68-43E6-ADB9-1BA24708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0FACD-5563-4726-9578-2890AEC2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400D1-22F4-4339-969D-ACA3A305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44F5F-DE32-4616-A651-92C71DCD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4D9A0-6D84-4C57-8416-01974FBC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44D77-6FCF-4517-BB78-A35EC39F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7311B-FA44-42C7-AD86-34DD7F85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73ABE-8F89-42E3-88D6-E6880F41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AB884-FF59-43C6-ACB0-C1C8BD59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8B9DB-78A2-45EE-9953-BF653ECB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CAD9-9BDC-47B1-B08E-8C412117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26F2E-752F-4A76-AC61-AECEE3CF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CB9CC-3BA5-473D-BBBB-E80E157B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477EF-B336-40C5-8CFC-F23D0CB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32006-8925-436B-AB3A-5B832E8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13A33-5C79-480D-983B-21CF56BB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54871-DA58-45D2-9350-D7AD6CDE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933F9-42A3-412D-BDA2-9064D09A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5F64-A8B1-4930-B096-F399E72D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438B-6A3F-436B-AE98-4C84F63D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4CB2-2401-4824-8AA5-A83DBEC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8DDD-DE42-4B5F-98BF-6B629C0C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539-8AA0-4669-ADB3-D5DC8F40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618A-CC27-431A-845D-DC17A8F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61A0-181F-47C7-959C-27C2A80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7635-3A48-45A5-B5E3-7B7CA6A9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45E5-D208-4BE5-A8F4-B3C521A7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7AE6-16BD-41A6-844C-CE4CB43F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91AC-89F1-4DBB-AEE6-11842DC0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2B540-1F86-4A83-90A9-524CF8CA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51B5-8349-44BF-9285-C8D9AC43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A189-9983-4DB1-A6F2-942C0935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0CC8-39C0-4BC3-8ABB-3301C0B0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CAB-7FA7-4061-9B2F-629BC0A3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11FD-A204-41EE-9682-F1C53302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34D7-0B0F-4C3A-A29F-7541E14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1333-8D4D-4602-927C-526AAC7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8CDB2-8004-45B3-96CB-5EAFF04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30D4-DFF2-4F25-B3AB-A32CE531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7A77-CC18-443E-9829-6D346F42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E04D-8442-47B1-8FD7-256E752D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A558-0B9F-474E-8A97-1D9B6A66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5B7A5-3EC0-4515-A240-750F36AE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CA12-319B-44D6-A0B4-01A35009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E4F-2ABB-4493-8CEC-2A4BC7B4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C1EFA-62C7-4354-98FB-3B7D6311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3396-A41F-4230-88F5-1302BE50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22CB1-BA20-4FC5-AA51-18403B3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257F-2B9B-4122-9323-D300ED6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0AFD-9C14-4251-BBAA-0289E54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FA2B-F091-47BA-88F0-2F8C8BC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61BA1-713E-4EDA-86E8-CAC17EDA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CDD5-56B0-4F92-B380-B6769972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DD702-B223-4E22-9577-27188C22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39FF-0D13-446E-AD52-3AAAD423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516-D703-461C-8077-11C44747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7756-3E28-46E4-A9A0-C1A29443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01BD-A94F-48C9-ACD2-BD894E38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358D3-E543-4778-BBA5-937E8BD7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0CAD-1C1D-48C6-99D8-BDD9622E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42553-C691-487C-9B1E-0739BC66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D36B-6BE9-4EF6-8AB3-3BB3A7C5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2DFFA-9D0D-4E39-8E97-6D59B41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CD6F6-9AAB-46CD-96B8-2BDD1C4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2B6C3-953F-48D8-877C-0ADDF2C6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C76E2-B4B7-40B0-BC7A-ACE4074B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061-E765-456E-AE72-D5510AAC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2498-7942-410A-87F8-FD5BA583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F9756-8DCF-4BAE-A6DE-B6FF0AD3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BF2FC-9848-4E0D-A48A-D29B652E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58F84-8051-4B3B-9BE5-6C86811B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32737-E583-469B-AD3F-6C5F7DB2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C8E2C-9D3F-45DA-A361-C8F616CD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9527D-76C5-416A-BA90-6635D036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98714-3349-4429-9BB2-680D7C0B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DDCB-DD7F-4A37-9D72-1AAB4C7A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E2F5-4CA4-436B-97C3-DB404402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E62-AFC7-4F3B-83BF-EC2A0FC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474A5-0C6D-4799-8E2E-FD864A9A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9E4A-CF42-4580-BD68-19716430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EB5E0-5664-4E6E-B6F0-B2A3F193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29065-298E-47D0-8D1B-8C93752E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DCA1-4DB3-4F0E-A869-772B327E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7FC15-B448-40C6-9822-1EA2CDBB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88C1C-FB8C-4A56-B17B-EEFBAAF7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E3A3F-A9B7-492B-86B1-24BC33F1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FDE9A-A85C-47B8-A88B-577D460E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2CDCA-AB4C-42EC-8668-CF76E95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3A9-047E-435E-8043-FD52D992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46981-D9DD-4A3C-849A-25BF6156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027E6-7D73-4E01-BAA8-BE583D40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B30CB-8095-40F4-B44A-761A20D5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4F6E9-C0C4-4FE0-BBDC-87DA1170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18FCA-7384-4BF6-ADF6-C53BFBDF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EB5A-A5BA-481C-936C-97C6E2AC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93E1-3C23-4746-A0E3-617DCA90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10916-5721-44D4-8F2E-000187CA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26EA4-963E-4189-AF67-A12661AE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29327-149D-45B3-8B8D-A6D18E0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FFD-B5F8-4966-84D5-BF083C39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F750A-53BA-44FD-BD48-EC2A6685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3904F-9036-4E05-995D-B458019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C149F-A648-40DB-B1CA-B8549761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255F9-6CAB-4D51-9C85-B165EA33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13609-CE70-4793-8631-6CD58D52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4A9DD-DFA8-419C-95A6-A9962F6B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F1222-FC9E-4A7B-8E8D-13A1BB09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7EBEA-F4CF-4D7C-A693-D396F7C7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2AD5E-70BB-4024-82C1-2AAC1C75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2F0A6-FA8F-4A9C-89C4-A2732ADD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F21-7970-43DE-867D-62E2FA621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413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4959-53CE-4745-9A28-41D464E55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459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602D-6030-4A86-97E2-EAABA6112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505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F39F-FEC1-4B8C-AAB8-F5ED49EE7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551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57E-5A36-4185-9F3C-FACF714D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177840" y="160200"/>
            <a:ext cx="642960" cy="64296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34920" y="33480"/>
            <a:ext cx="3673440" cy="2609640"/>
            <a:chOff x="34920" y="33480"/>
            <a:chExt cx="3673440" cy="2609640"/>
          </a:xfrm>
        </p:grpSpPr>
        <p:sp>
          <p:nvSpPr>
            <p:cNvPr id="45" name="Rectangle 4"/>
            <p:cNvSpPr/>
            <p:nvPr/>
          </p:nvSpPr>
          <p:spPr>
            <a:xfrm>
              <a:off x="34920" y="3348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34920" y="70200"/>
              <a:ext cx="39960" cy="2572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BF07-86E9-4437-A1C7-D0752873A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7"/>
          <p:cNvSpPr/>
          <p:nvPr/>
        </p:nvSpPr>
        <p:spPr>
          <a:xfrm>
            <a:off x="0" y="48672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节点电位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91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TextBox 11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电容元件和电感元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BA4B-1AF2-46D6-B77B-4641902C7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137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电容元件和电感元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B743-DAE3-44E4-ACC6-37503D795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183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电容元件和电感元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7003-AC14-4F48-A31D-4726B7830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29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电容元件和电感元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345B-A4FF-4AEA-AA3D-C6AADFC91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75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电容元件和电感元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0BD8-0960-4975-87AE-7525177A5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321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TextBox 10"/>
          <p:cNvSpPr/>
          <p:nvPr/>
        </p:nvSpPr>
        <p:spPr>
          <a:xfrm>
            <a:off x="34920" y="-41400"/>
            <a:ext cx="26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基尔霍夫定律的相量形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5A96-FD96-42FC-B6DB-0B0886170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367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TextBox 10"/>
          <p:cNvSpPr/>
          <p:nvPr/>
        </p:nvSpPr>
        <p:spPr>
          <a:xfrm>
            <a:off x="34920" y="-414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 </a:t>
            </a:r>
            <a:r>
              <a:rPr b="1" lang="zh-CN" sz="1200" spc="-1" strike="noStrike">
                <a:solidFill>
                  <a:srgbClr val="16165d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DFDF-2DD0-467D-B9C7-B92ADC535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2"/>
          <p:cNvSpPr/>
          <p:nvPr/>
        </p:nvSpPr>
        <p:spPr>
          <a:xfrm>
            <a:off x="2730960" y="20001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65d"/>
                </a:solidFill>
                <a:latin typeface="宋体"/>
              </a:rPr>
              <a:t>基尔霍夫定律的相量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Object 3"/>
          <p:cNvGraphicFramePr/>
          <p:nvPr/>
        </p:nvGraphicFramePr>
        <p:xfrm>
          <a:off x="3780000" y="714240"/>
          <a:ext cx="165564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714240"/>
                    <a:ext cx="16556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4"/>
          <p:cNvGraphicFramePr/>
          <p:nvPr/>
        </p:nvGraphicFramePr>
        <p:xfrm>
          <a:off x="1042920" y="2066760"/>
          <a:ext cx="34560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066760"/>
                    <a:ext cx="34560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矩形 5"/>
          <p:cNvSpPr/>
          <p:nvPr/>
        </p:nvSpPr>
        <p:spPr>
          <a:xfrm>
            <a:off x="539640" y="1563840"/>
            <a:ext cx="72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电路中全部电流都具有同一频率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矩形 6"/>
          <p:cNvSpPr/>
          <p:nvPr/>
        </p:nvSpPr>
        <p:spPr>
          <a:xfrm>
            <a:off x="2556000" y="1000080"/>
            <a:ext cx="11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C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Object 5"/>
          <p:cNvGraphicFramePr/>
          <p:nvPr/>
        </p:nvGraphicFramePr>
        <p:xfrm>
          <a:off x="2411280" y="3076560"/>
          <a:ext cx="5877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076560"/>
                    <a:ext cx="5877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矩形 24"/>
          <p:cNvSpPr/>
          <p:nvPr/>
        </p:nvSpPr>
        <p:spPr>
          <a:xfrm>
            <a:off x="179280" y="3076560"/>
            <a:ext cx="2016360" cy="520560"/>
          </a:xfrm>
          <a:prstGeom prst="rect">
            <a:avLst/>
          </a:prstGeom>
          <a:solidFill>
            <a:srgbClr val="2d2db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代入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KCL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矩形 20"/>
          <p:cNvSpPr/>
          <p:nvPr/>
        </p:nvSpPr>
        <p:spPr>
          <a:xfrm>
            <a:off x="285840" y="28584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一、基尔霍夫电流定律的相量形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Object 1"/>
          <p:cNvGraphicFramePr/>
          <p:nvPr/>
        </p:nvGraphicFramePr>
        <p:xfrm>
          <a:off x="2556000" y="4011480"/>
          <a:ext cx="4289400" cy="87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7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4011480"/>
                    <a:ext cx="4289400" cy="87336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3"/>
          <p:cNvSpPr/>
          <p:nvPr/>
        </p:nvSpPr>
        <p:spPr>
          <a:xfrm>
            <a:off x="395280" y="1731960"/>
            <a:ext cx="7921800" cy="52056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对于具有相同频率的正弦电路中的任一节点，  流出该节点的全部支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电流相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代数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等于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矩形 4"/>
          <p:cNvSpPr/>
          <p:nvPr/>
        </p:nvSpPr>
        <p:spPr>
          <a:xfrm>
            <a:off x="214200" y="1131840"/>
            <a:ext cx="40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量形式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468360" y="4084560"/>
            <a:ext cx="79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流出节点的电流取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号，则流入节点的电流取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468360" y="28591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出任一节点的全部支路电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振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有效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代数和并不一定等于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Object 1"/>
          <p:cNvGraphicFramePr/>
          <p:nvPr/>
        </p:nvGraphicFramePr>
        <p:xfrm>
          <a:off x="3851280" y="627120"/>
          <a:ext cx="428940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627120"/>
                    <a:ext cx="4289400" cy="87300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4" name="Object 1"/>
          <p:cNvGraphicFramePr/>
          <p:nvPr/>
        </p:nvGraphicFramePr>
        <p:xfrm>
          <a:off x="4788000" y="3219480"/>
          <a:ext cx="321444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219480"/>
                    <a:ext cx="32144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组合 1"/>
          <p:cNvGrpSpPr/>
          <p:nvPr/>
        </p:nvGrpSpPr>
        <p:grpSpPr>
          <a:xfrm>
            <a:off x="250920" y="368280"/>
            <a:ext cx="8529480" cy="1007640"/>
            <a:chOff x="250920" y="368280"/>
            <a:chExt cx="8529480" cy="1007640"/>
          </a:xfrm>
        </p:grpSpPr>
        <p:sp>
          <p:nvSpPr>
            <p:cNvPr id="617" name="AutoShape 93"/>
            <p:cNvSpPr/>
            <p:nvPr/>
          </p:nvSpPr>
          <p:spPr>
            <a:xfrm>
              <a:off x="250920" y="368280"/>
              <a:ext cx="8353440" cy="979560"/>
            </a:xfrm>
            <a:prstGeom prst="roundRect">
              <a:avLst>
                <a:gd name="adj" fmla="val 16301"/>
              </a:avLst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4"/>
            <p:cNvSpPr/>
            <p:nvPr/>
          </p:nvSpPr>
          <p:spPr>
            <a:xfrm>
              <a:off x="362520" y="369720"/>
              <a:ext cx="8417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【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】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：已知图中电流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191966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 =10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√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2cos(</a:t>
              </a:r>
              <a:r>
                <a:rPr b="1" lang="el-GR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ω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+60</a:t>
              </a:r>
              <a:r>
                <a:rPr b="1" lang="en-US" sz="2800" spc="-1" strike="noStrike">
                  <a:solidFill>
                    <a:srgbClr val="191966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A ,          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1919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= 5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√2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 sin(</a:t>
              </a:r>
              <a:r>
                <a:rPr b="1" lang="el-GR" sz="2400" spc="-1" strike="noStrike">
                  <a:solidFill>
                    <a:srgbClr val="191966"/>
                  </a:solidFill>
                  <a:latin typeface="Times New Roman"/>
                </a:rPr>
                <a:t>ω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A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试求电流有效值相量及其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1"/>
            <p:cNvSpPr/>
            <p:nvPr/>
          </p:nvSpPr>
          <p:spPr>
            <a:xfrm flipV="1">
              <a:off x="5632560" y="446040"/>
              <a:ext cx="1882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2"/>
            <p:cNvSpPr/>
            <p:nvPr/>
          </p:nvSpPr>
          <p:spPr>
            <a:xfrm>
              <a:off x="1745640" y="875880"/>
              <a:ext cx="18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Text Box 31"/>
          <p:cNvSpPr/>
          <p:nvPr/>
        </p:nvSpPr>
        <p:spPr>
          <a:xfrm>
            <a:off x="8197920" y="1587600"/>
            <a:ext cx="761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组合 1"/>
          <p:cNvGrpSpPr/>
          <p:nvPr/>
        </p:nvGrpSpPr>
        <p:grpSpPr>
          <a:xfrm>
            <a:off x="5580000" y="1293840"/>
            <a:ext cx="2768760" cy="1638360"/>
            <a:chOff x="5580000" y="1293840"/>
            <a:chExt cx="2768760" cy="1638360"/>
          </a:xfrm>
        </p:grpSpPr>
        <p:sp>
          <p:nvSpPr>
            <p:cNvPr id="623" name="Rectangle 15"/>
            <p:cNvSpPr/>
            <p:nvPr/>
          </p:nvSpPr>
          <p:spPr>
            <a:xfrm>
              <a:off x="6975360" y="2189160"/>
              <a:ext cx="457200" cy="399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6"/>
            <p:cNvSpPr/>
            <p:nvPr/>
          </p:nvSpPr>
          <p:spPr>
            <a:xfrm>
              <a:off x="6215040" y="1846080"/>
              <a:ext cx="76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7"/>
            <p:cNvSpPr/>
            <p:nvPr/>
          </p:nvSpPr>
          <p:spPr>
            <a:xfrm>
              <a:off x="7205760" y="18460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8"/>
            <p:cNvSpPr/>
            <p:nvPr/>
          </p:nvSpPr>
          <p:spPr>
            <a:xfrm>
              <a:off x="6900840" y="1846080"/>
              <a:ext cx="1219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19"/>
            <p:cNvSpPr/>
            <p:nvPr/>
          </p:nvSpPr>
          <p:spPr>
            <a:xfrm>
              <a:off x="7891560" y="2189160"/>
              <a:ext cx="457200" cy="399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0"/>
            <p:cNvSpPr/>
            <p:nvPr/>
          </p:nvSpPr>
          <p:spPr>
            <a:xfrm>
              <a:off x="8120160" y="18460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1"/>
            <p:cNvSpPr/>
            <p:nvPr/>
          </p:nvSpPr>
          <p:spPr>
            <a:xfrm>
              <a:off x="6215040" y="2932200"/>
              <a:ext cx="1905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2"/>
            <p:cNvSpPr/>
            <p:nvPr/>
          </p:nvSpPr>
          <p:spPr>
            <a:xfrm>
              <a:off x="8120160" y="25894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3"/>
            <p:cNvSpPr/>
            <p:nvPr/>
          </p:nvSpPr>
          <p:spPr>
            <a:xfrm>
              <a:off x="7205760" y="25894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4"/>
            <p:cNvSpPr/>
            <p:nvPr/>
          </p:nvSpPr>
          <p:spPr>
            <a:xfrm flipH="1">
              <a:off x="5833800" y="1846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5"/>
            <p:cNvSpPr/>
            <p:nvPr/>
          </p:nvSpPr>
          <p:spPr>
            <a:xfrm flipH="1">
              <a:off x="5833800" y="2932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6"/>
            <p:cNvSpPr/>
            <p:nvPr/>
          </p:nvSpPr>
          <p:spPr>
            <a:xfrm flipV="1">
              <a:off x="5833800" y="201744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7"/>
            <p:cNvSpPr/>
            <p:nvPr/>
          </p:nvSpPr>
          <p:spPr>
            <a:xfrm>
              <a:off x="583380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28"/>
            <p:cNvSpPr/>
            <p:nvPr/>
          </p:nvSpPr>
          <p:spPr>
            <a:xfrm flipV="1">
              <a:off x="5833800" y="184608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29"/>
            <p:cNvSpPr/>
            <p:nvPr/>
          </p:nvSpPr>
          <p:spPr>
            <a:xfrm>
              <a:off x="6519960" y="12938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30"/>
            <p:cNvSpPr/>
            <p:nvPr/>
          </p:nvSpPr>
          <p:spPr>
            <a:xfrm>
              <a:off x="7358040" y="1789200"/>
              <a:ext cx="762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>
              <a:off x="6973920" y="215748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33"/>
            <p:cNvSpPr/>
            <p:nvPr/>
          </p:nvSpPr>
          <p:spPr>
            <a:xfrm>
              <a:off x="6181560" y="18514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34"/>
            <p:cNvSpPr/>
            <p:nvPr/>
          </p:nvSpPr>
          <p:spPr>
            <a:xfrm>
              <a:off x="7205760" y="18460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35"/>
            <p:cNvSpPr/>
            <p:nvPr/>
          </p:nvSpPr>
          <p:spPr>
            <a:xfrm>
              <a:off x="6900840" y="18460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36"/>
            <p:cNvSpPr/>
            <p:nvPr/>
          </p:nvSpPr>
          <p:spPr>
            <a:xfrm>
              <a:off x="7891560" y="218916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37"/>
            <p:cNvSpPr/>
            <p:nvPr/>
          </p:nvSpPr>
          <p:spPr>
            <a:xfrm>
              <a:off x="8120160" y="18460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38"/>
            <p:cNvSpPr/>
            <p:nvPr/>
          </p:nvSpPr>
          <p:spPr>
            <a:xfrm>
              <a:off x="6215040" y="293220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39"/>
            <p:cNvSpPr/>
            <p:nvPr/>
          </p:nvSpPr>
          <p:spPr>
            <a:xfrm>
              <a:off x="812016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0"/>
            <p:cNvSpPr/>
            <p:nvPr/>
          </p:nvSpPr>
          <p:spPr>
            <a:xfrm>
              <a:off x="720576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41"/>
            <p:cNvSpPr/>
            <p:nvPr/>
          </p:nvSpPr>
          <p:spPr>
            <a:xfrm flipH="1">
              <a:off x="5821200" y="1851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42"/>
            <p:cNvSpPr/>
            <p:nvPr/>
          </p:nvSpPr>
          <p:spPr>
            <a:xfrm flipH="1">
              <a:off x="5833800" y="2932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>
              <a:off x="583380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45"/>
            <p:cNvSpPr/>
            <p:nvPr/>
          </p:nvSpPr>
          <p:spPr>
            <a:xfrm>
              <a:off x="7358040" y="1789200"/>
              <a:ext cx="762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46"/>
            <p:cNvSpPr/>
            <p:nvPr/>
          </p:nvSpPr>
          <p:spPr>
            <a:xfrm>
              <a:off x="5580000" y="215748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组合 2"/>
          <p:cNvGrpSpPr/>
          <p:nvPr/>
        </p:nvGrpSpPr>
        <p:grpSpPr>
          <a:xfrm>
            <a:off x="108000" y="1203480"/>
            <a:ext cx="5524560" cy="759240"/>
            <a:chOff x="108000" y="1203480"/>
            <a:chExt cx="5524560" cy="759240"/>
          </a:xfrm>
        </p:grpSpPr>
        <p:sp>
          <p:nvSpPr>
            <p:cNvPr id="654" name="Text Box 6"/>
            <p:cNvSpPr/>
            <p:nvPr/>
          </p:nvSpPr>
          <p:spPr>
            <a:xfrm>
              <a:off x="108000" y="1281600"/>
              <a:ext cx="55245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解</a:t>
              </a: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效值相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66"/>
            <p:cNvSpPr/>
            <p:nvPr/>
          </p:nvSpPr>
          <p:spPr>
            <a:xfrm>
              <a:off x="3132000" y="120348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组合 3"/>
          <p:cNvGrpSpPr/>
          <p:nvPr/>
        </p:nvGrpSpPr>
        <p:grpSpPr>
          <a:xfrm>
            <a:off x="666720" y="1708200"/>
            <a:ext cx="4984920" cy="774000"/>
            <a:chOff x="666720" y="1708200"/>
            <a:chExt cx="4984920" cy="774000"/>
          </a:xfrm>
        </p:grpSpPr>
        <p:sp>
          <p:nvSpPr>
            <p:cNvPr id="657" name="Text Box 64"/>
            <p:cNvSpPr/>
            <p:nvPr/>
          </p:nvSpPr>
          <p:spPr>
            <a:xfrm>
              <a:off x="703800" y="170820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6"/>
            <p:cNvSpPr/>
            <p:nvPr/>
          </p:nvSpPr>
          <p:spPr>
            <a:xfrm>
              <a:off x="666720" y="1902600"/>
              <a:ext cx="498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5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90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作相量模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1"/>
          <p:cNvGrpSpPr/>
          <p:nvPr/>
        </p:nvGrpSpPr>
        <p:grpSpPr>
          <a:xfrm>
            <a:off x="250920" y="368280"/>
            <a:ext cx="8529480" cy="1007640"/>
            <a:chOff x="250920" y="368280"/>
            <a:chExt cx="8529480" cy="1007640"/>
          </a:xfrm>
        </p:grpSpPr>
        <p:sp>
          <p:nvSpPr>
            <p:cNvPr id="660" name="AutoShape 93"/>
            <p:cNvSpPr/>
            <p:nvPr/>
          </p:nvSpPr>
          <p:spPr>
            <a:xfrm>
              <a:off x="250920" y="368280"/>
              <a:ext cx="8353440" cy="979560"/>
            </a:xfrm>
            <a:prstGeom prst="roundRect">
              <a:avLst>
                <a:gd name="adj" fmla="val 16301"/>
              </a:avLst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4"/>
            <p:cNvSpPr/>
            <p:nvPr/>
          </p:nvSpPr>
          <p:spPr>
            <a:xfrm>
              <a:off x="362520" y="369720"/>
              <a:ext cx="8417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【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】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：已知图中电流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191966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 =10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√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2cos(</a:t>
              </a:r>
              <a:r>
                <a:rPr b="1" lang="el-GR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ω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+60</a:t>
              </a:r>
              <a:r>
                <a:rPr b="1" lang="en-US" sz="2800" spc="-1" strike="noStrike">
                  <a:solidFill>
                    <a:srgbClr val="191966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A ,          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1919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= 5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√2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 sin(</a:t>
              </a:r>
              <a:r>
                <a:rPr b="1" lang="el-GR" sz="2400" spc="-1" strike="noStrike">
                  <a:solidFill>
                    <a:srgbClr val="191966"/>
                  </a:solidFill>
                  <a:latin typeface="Times New Roman"/>
                </a:rPr>
                <a:t>ω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A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试求电流有效值相量及其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1"/>
            <p:cNvSpPr/>
            <p:nvPr/>
          </p:nvSpPr>
          <p:spPr>
            <a:xfrm flipV="1">
              <a:off x="5632560" y="446040"/>
              <a:ext cx="1882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2"/>
            <p:cNvSpPr/>
            <p:nvPr/>
          </p:nvSpPr>
          <p:spPr>
            <a:xfrm>
              <a:off x="1745640" y="875880"/>
              <a:ext cx="18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组合 2"/>
          <p:cNvGrpSpPr/>
          <p:nvPr/>
        </p:nvGrpSpPr>
        <p:grpSpPr>
          <a:xfrm>
            <a:off x="108000" y="1203480"/>
            <a:ext cx="5524560" cy="759240"/>
            <a:chOff x="108000" y="1203480"/>
            <a:chExt cx="5524560" cy="759240"/>
          </a:xfrm>
        </p:grpSpPr>
        <p:sp>
          <p:nvSpPr>
            <p:cNvPr id="665" name="Text Box 6"/>
            <p:cNvSpPr/>
            <p:nvPr/>
          </p:nvSpPr>
          <p:spPr>
            <a:xfrm>
              <a:off x="108000" y="1281600"/>
              <a:ext cx="55245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解</a:t>
              </a: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效值相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66"/>
            <p:cNvSpPr/>
            <p:nvPr/>
          </p:nvSpPr>
          <p:spPr>
            <a:xfrm>
              <a:off x="3132000" y="120348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组合 3"/>
          <p:cNvGrpSpPr/>
          <p:nvPr/>
        </p:nvGrpSpPr>
        <p:grpSpPr>
          <a:xfrm>
            <a:off x="666720" y="1708200"/>
            <a:ext cx="4984920" cy="774000"/>
            <a:chOff x="666720" y="1708200"/>
            <a:chExt cx="4984920" cy="774000"/>
          </a:xfrm>
        </p:grpSpPr>
        <p:sp>
          <p:nvSpPr>
            <p:cNvPr id="668" name="Text Box 64"/>
            <p:cNvSpPr/>
            <p:nvPr/>
          </p:nvSpPr>
          <p:spPr>
            <a:xfrm>
              <a:off x="703800" y="170820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6"/>
            <p:cNvSpPr/>
            <p:nvPr/>
          </p:nvSpPr>
          <p:spPr>
            <a:xfrm>
              <a:off x="666720" y="1902600"/>
              <a:ext cx="498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5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90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作相量模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组合 47"/>
          <p:cNvGrpSpPr/>
          <p:nvPr/>
        </p:nvGrpSpPr>
        <p:grpSpPr>
          <a:xfrm>
            <a:off x="698400" y="2386080"/>
            <a:ext cx="4305240" cy="714600"/>
            <a:chOff x="698400" y="2386080"/>
            <a:chExt cx="4305240" cy="714600"/>
          </a:xfrm>
        </p:grpSpPr>
        <p:graphicFrame>
          <p:nvGraphicFramePr>
            <p:cNvPr id="671" name="Object 60"/>
            <p:cNvGraphicFramePr/>
            <p:nvPr/>
          </p:nvGraphicFramePr>
          <p:xfrm>
            <a:off x="2560320" y="2529360"/>
            <a:ext cx="2443320" cy="57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2" name="Object 6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60320" y="2529360"/>
                      <a:ext cx="244332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3" name="Text Box 61"/>
            <p:cNvSpPr/>
            <p:nvPr/>
          </p:nvSpPr>
          <p:spPr>
            <a:xfrm>
              <a:off x="698400" y="2386080"/>
              <a:ext cx="22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KC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组合 4"/>
          <p:cNvGrpSpPr/>
          <p:nvPr/>
        </p:nvGrpSpPr>
        <p:grpSpPr>
          <a:xfrm>
            <a:off x="5580000" y="1181520"/>
            <a:ext cx="3168720" cy="1750680"/>
            <a:chOff x="5580000" y="1181520"/>
            <a:chExt cx="3168720" cy="1750680"/>
          </a:xfrm>
        </p:grpSpPr>
        <p:sp>
          <p:nvSpPr>
            <p:cNvPr id="675" name="Rectangle 15"/>
            <p:cNvSpPr/>
            <p:nvPr/>
          </p:nvSpPr>
          <p:spPr>
            <a:xfrm>
              <a:off x="6975360" y="2189160"/>
              <a:ext cx="457200" cy="399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6"/>
            <p:cNvSpPr/>
            <p:nvPr/>
          </p:nvSpPr>
          <p:spPr>
            <a:xfrm>
              <a:off x="6215040" y="1846080"/>
              <a:ext cx="76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7"/>
            <p:cNvSpPr/>
            <p:nvPr/>
          </p:nvSpPr>
          <p:spPr>
            <a:xfrm>
              <a:off x="7205760" y="18460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8"/>
            <p:cNvSpPr/>
            <p:nvPr/>
          </p:nvSpPr>
          <p:spPr>
            <a:xfrm>
              <a:off x="6900840" y="1846080"/>
              <a:ext cx="1219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19"/>
            <p:cNvSpPr/>
            <p:nvPr/>
          </p:nvSpPr>
          <p:spPr>
            <a:xfrm>
              <a:off x="7891560" y="2189160"/>
              <a:ext cx="457200" cy="399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0"/>
            <p:cNvSpPr/>
            <p:nvPr/>
          </p:nvSpPr>
          <p:spPr>
            <a:xfrm>
              <a:off x="8120520" y="18460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21"/>
            <p:cNvSpPr/>
            <p:nvPr/>
          </p:nvSpPr>
          <p:spPr>
            <a:xfrm>
              <a:off x="6215040" y="2932200"/>
              <a:ext cx="1905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22"/>
            <p:cNvSpPr/>
            <p:nvPr/>
          </p:nvSpPr>
          <p:spPr>
            <a:xfrm>
              <a:off x="8120520" y="25894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3"/>
            <p:cNvSpPr/>
            <p:nvPr/>
          </p:nvSpPr>
          <p:spPr>
            <a:xfrm>
              <a:off x="7205760" y="25894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>
              <a:off x="5833800" y="1846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H="1">
              <a:off x="5833800" y="2932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26"/>
            <p:cNvSpPr/>
            <p:nvPr/>
          </p:nvSpPr>
          <p:spPr>
            <a:xfrm flipV="1">
              <a:off x="5833800" y="201744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583380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8"/>
            <p:cNvSpPr/>
            <p:nvPr/>
          </p:nvSpPr>
          <p:spPr>
            <a:xfrm flipV="1">
              <a:off x="5833800" y="184608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6519960" y="1293480"/>
              <a:ext cx="762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32"/>
            <p:cNvSpPr/>
            <p:nvPr/>
          </p:nvSpPr>
          <p:spPr>
            <a:xfrm>
              <a:off x="6973920" y="224388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33"/>
            <p:cNvSpPr/>
            <p:nvPr/>
          </p:nvSpPr>
          <p:spPr>
            <a:xfrm>
              <a:off x="6181560" y="18514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 flipH="1">
              <a:off x="7202520" y="1846080"/>
              <a:ext cx="288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>
              <a:off x="6900840" y="18460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36"/>
            <p:cNvSpPr/>
            <p:nvPr/>
          </p:nvSpPr>
          <p:spPr>
            <a:xfrm>
              <a:off x="7891560" y="218916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37"/>
            <p:cNvSpPr/>
            <p:nvPr/>
          </p:nvSpPr>
          <p:spPr>
            <a:xfrm>
              <a:off x="8120520" y="18460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38"/>
            <p:cNvSpPr/>
            <p:nvPr/>
          </p:nvSpPr>
          <p:spPr>
            <a:xfrm>
              <a:off x="6215040" y="293220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39"/>
            <p:cNvSpPr/>
            <p:nvPr/>
          </p:nvSpPr>
          <p:spPr>
            <a:xfrm>
              <a:off x="812052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40"/>
            <p:cNvSpPr/>
            <p:nvPr/>
          </p:nvSpPr>
          <p:spPr>
            <a:xfrm>
              <a:off x="7205760" y="2644560"/>
              <a:ext cx="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41"/>
            <p:cNvSpPr/>
            <p:nvPr/>
          </p:nvSpPr>
          <p:spPr>
            <a:xfrm flipH="1">
              <a:off x="5821200" y="1851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42"/>
            <p:cNvSpPr/>
            <p:nvPr/>
          </p:nvSpPr>
          <p:spPr>
            <a:xfrm flipH="1">
              <a:off x="5833800" y="2932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43"/>
            <p:cNvSpPr/>
            <p:nvPr/>
          </p:nvSpPr>
          <p:spPr>
            <a:xfrm>
              <a:off x="583380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46"/>
            <p:cNvSpPr/>
            <p:nvPr/>
          </p:nvSpPr>
          <p:spPr>
            <a:xfrm>
              <a:off x="5580000" y="215748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组合 3"/>
            <p:cNvGrpSpPr/>
            <p:nvPr/>
          </p:nvGrpSpPr>
          <p:grpSpPr>
            <a:xfrm>
              <a:off x="6767640" y="1181520"/>
              <a:ext cx="604800" cy="692280"/>
              <a:chOff x="6767640" y="1181520"/>
              <a:chExt cx="604800" cy="692280"/>
            </a:xfrm>
          </p:grpSpPr>
          <p:sp>
            <p:nvSpPr>
              <p:cNvPr id="704" name="Text Box 66"/>
              <p:cNvSpPr/>
              <p:nvPr/>
            </p:nvSpPr>
            <p:spPr>
              <a:xfrm rot="21060000">
                <a:off x="6848280" y="1206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文本框 4"/>
              <p:cNvSpPr/>
              <p:nvPr/>
            </p:nvSpPr>
            <p:spPr>
              <a:xfrm>
                <a:off x="6767640" y="1414080"/>
                <a:ext cx="60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组合 6"/>
            <p:cNvGrpSpPr/>
            <p:nvPr/>
          </p:nvGrpSpPr>
          <p:grpSpPr>
            <a:xfrm>
              <a:off x="7207560" y="1610640"/>
              <a:ext cx="604800" cy="742680"/>
              <a:chOff x="7207560" y="1610640"/>
              <a:chExt cx="604800" cy="742680"/>
            </a:xfrm>
          </p:grpSpPr>
          <p:sp>
            <p:nvSpPr>
              <p:cNvPr id="707" name="Text Box 66"/>
              <p:cNvSpPr/>
              <p:nvPr/>
            </p:nvSpPr>
            <p:spPr>
              <a:xfrm rot="21060000">
                <a:off x="7245720" y="1635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文本框 8"/>
              <p:cNvSpPr/>
              <p:nvPr/>
            </p:nvSpPr>
            <p:spPr>
              <a:xfrm>
                <a:off x="7207560" y="1843200"/>
                <a:ext cx="604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组合 9"/>
            <p:cNvGrpSpPr/>
            <p:nvPr/>
          </p:nvGrpSpPr>
          <p:grpSpPr>
            <a:xfrm>
              <a:off x="8142480" y="1521360"/>
              <a:ext cx="606240" cy="742680"/>
              <a:chOff x="8142480" y="1521360"/>
              <a:chExt cx="606240" cy="742680"/>
            </a:xfrm>
          </p:grpSpPr>
          <p:sp>
            <p:nvSpPr>
              <p:cNvPr id="710" name="Text Box 66"/>
              <p:cNvSpPr/>
              <p:nvPr/>
            </p:nvSpPr>
            <p:spPr>
              <a:xfrm rot="21060000">
                <a:off x="8223840" y="1545840"/>
                <a:ext cx="35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文本框 11"/>
              <p:cNvSpPr/>
              <p:nvPr/>
            </p:nvSpPr>
            <p:spPr>
              <a:xfrm>
                <a:off x="8142480" y="175392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12" name="Object 62"/>
              <p:cNvSpPr txBox="1"/>
              <p:nvPr/>
            </p:nvSpPr>
            <p:spPr>
              <a:xfrm>
                <a:off x="828720" y="3084480"/>
                <a:ext cx="3889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圆角矩形 10"/>
          <p:cNvSpPr/>
          <p:nvPr/>
        </p:nvSpPr>
        <p:spPr>
          <a:xfrm>
            <a:off x="5796000" y="1851120"/>
            <a:ext cx="2808360" cy="244800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组合 1"/>
          <p:cNvGrpSpPr/>
          <p:nvPr/>
        </p:nvGrpSpPr>
        <p:grpSpPr>
          <a:xfrm>
            <a:off x="250920" y="368280"/>
            <a:ext cx="8529480" cy="1007640"/>
            <a:chOff x="250920" y="368280"/>
            <a:chExt cx="8529480" cy="1007640"/>
          </a:xfrm>
        </p:grpSpPr>
        <p:sp>
          <p:nvSpPr>
            <p:cNvPr id="715" name="AutoShape 93"/>
            <p:cNvSpPr/>
            <p:nvPr/>
          </p:nvSpPr>
          <p:spPr>
            <a:xfrm>
              <a:off x="250920" y="368280"/>
              <a:ext cx="8353440" cy="979560"/>
            </a:xfrm>
            <a:prstGeom prst="roundRect">
              <a:avLst>
                <a:gd name="adj" fmla="val 16301"/>
              </a:avLst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4"/>
            <p:cNvSpPr/>
            <p:nvPr/>
          </p:nvSpPr>
          <p:spPr>
            <a:xfrm>
              <a:off x="362520" y="369720"/>
              <a:ext cx="8417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【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】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：已知图中电流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191966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 =10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√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2cos(</a:t>
              </a:r>
              <a:r>
                <a:rPr b="1" lang="el-GR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ω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+60</a:t>
              </a:r>
              <a:r>
                <a:rPr b="1" lang="en-US" sz="2800" spc="-1" strike="noStrike">
                  <a:solidFill>
                    <a:srgbClr val="191966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A ,          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1919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= 5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√2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 sin(</a:t>
              </a:r>
              <a:r>
                <a:rPr b="1" lang="el-GR" sz="2400" spc="-1" strike="noStrike">
                  <a:solidFill>
                    <a:srgbClr val="191966"/>
                  </a:solidFill>
                  <a:latin typeface="Times New Roman"/>
                </a:rPr>
                <a:t>ω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A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试求电流有效值相量及其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 flipV="1">
              <a:off x="5632560" y="446040"/>
              <a:ext cx="1882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>
              <a:off x="1745640" y="875880"/>
              <a:ext cx="18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组合 2"/>
          <p:cNvGrpSpPr/>
          <p:nvPr/>
        </p:nvGrpSpPr>
        <p:grpSpPr>
          <a:xfrm>
            <a:off x="108000" y="1203480"/>
            <a:ext cx="5524560" cy="759240"/>
            <a:chOff x="108000" y="1203480"/>
            <a:chExt cx="5524560" cy="759240"/>
          </a:xfrm>
        </p:grpSpPr>
        <p:sp>
          <p:nvSpPr>
            <p:cNvPr id="720" name="Text Box 6"/>
            <p:cNvSpPr/>
            <p:nvPr/>
          </p:nvSpPr>
          <p:spPr>
            <a:xfrm>
              <a:off x="108000" y="1281600"/>
              <a:ext cx="55245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解</a:t>
              </a: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效值相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66"/>
            <p:cNvSpPr/>
            <p:nvPr/>
          </p:nvSpPr>
          <p:spPr>
            <a:xfrm>
              <a:off x="3132000" y="120348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组合 3"/>
          <p:cNvGrpSpPr/>
          <p:nvPr/>
        </p:nvGrpSpPr>
        <p:grpSpPr>
          <a:xfrm>
            <a:off x="666720" y="1708200"/>
            <a:ext cx="4984920" cy="774000"/>
            <a:chOff x="666720" y="1708200"/>
            <a:chExt cx="4984920" cy="774000"/>
          </a:xfrm>
        </p:grpSpPr>
        <p:sp>
          <p:nvSpPr>
            <p:cNvPr id="723" name="Text Box 64"/>
            <p:cNvSpPr/>
            <p:nvPr/>
          </p:nvSpPr>
          <p:spPr>
            <a:xfrm>
              <a:off x="703800" y="170820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6"/>
            <p:cNvSpPr/>
            <p:nvPr/>
          </p:nvSpPr>
          <p:spPr>
            <a:xfrm>
              <a:off x="666720" y="1902600"/>
              <a:ext cx="498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5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90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作相量模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组合 47"/>
          <p:cNvGrpSpPr/>
          <p:nvPr/>
        </p:nvGrpSpPr>
        <p:grpSpPr>
          <a:xfrm>
            <a:off x="698400" y="2386080"/>
            <a:ext cx="4305240" cy="714600"/>
            <a:chOff x="698400" y="2386080"/>
            <a:chExt cx="4305240" cy="714600"/>
          </a:xfrm>
        </p:grpSpPr>
        <p:graphicFrame>
          <p:nvGraphicFramePr>
            <p:cNvPr id="726" name="Object 60"/>
            <p:cNvGraphicFramePr/>
            <p:nvPr/>
          </p:nvGraphicFramePr>
          <p:xfrm>
            <a:off x="2560320" y="2529360"/>
            <a:ext cx="2443320" cy="57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7" name="Object 6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60320" y="2529360"/>
                      <a:ext cx="244332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8" name="Text Box 61"/>
            <p:cNvSpPr/>
            <p:nvPr/>
          </p:nvSpPr>
          <p:spPr>
            <a:xfrm>
              <a:off x="698400" y="2386080"/>
              <a:ext cx="22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KC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9" name="Object 62"/>
              <p:cNvSpPr txBox="1"/>
              <p:nvPr/>
            </p:nvSpPr>
            <p:spPr>
              <a:xfrm>
                <a:off x="828720" y="3084480"/>
                <a:ext cx="3889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62"/>
              <p:cNvSpPr txBox="1"/>
              <p:nvPr/>
            </p:nvSpPr>
            <p:spPr>
              <a:xfrm>
                <a:off x="5821200" y="2908440"/>
                <a:ext cx="2668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j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62"/>
              <p:cNvSpPr txBox="1"/>
              <p:nvPr/>
            </p:nvSpPr>
            <p:spPr>
              <a:xfrm>
                <a:off x="6461280" y="3378240"/>
                <a:ext cx="13651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62"/>
              <p:cNvSpPr txBox="1"/>
              <p:nvPr/>
            </p:nvSpPr>
            <p:spPr>
              <a:xfrm>
                <a:off x="6416640" y="1820880"/>
                <a:ext cx="14781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组合 1"/>
          <p:cNvGrpSpPr/>
          <p:nvPr/>
        </p:nvGrpSpPr>
        <p:grpSpPr>
          <a:xfrm>
            <a:off x="250920" y="368280"/>
            <a:ext cx="8529480" cy="1007640"/>
            <a:chOff x="250920" y="368280"/>
            <a:chExt cx="8529480" cy="1007640"/>
          </a:xfrm>
        </p:grpSpPr>
        <p:sp>
          <p:nvSpPr>
            <p:cNvPr id="734" name="AutoShape 93"/>
            <p:cNvSpPr/>
            <p:nvPr/>
          </p:nvSpPr>
          <p:spPr>
            <a:xfrm>
              <a:off x="250920" y="368280"/>
              <a:ext cx="8353440" cy="979560"/>
            </a:xfrm>
            <a:prstGeom prst="roundRect">
              <a:avLst>
                <a:gd name="adj" fmla="val 16301"/>
              </a:avLst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4"/>
            <p:cNvSpPr/>
            <p:nvPr/>
          </p:nvSpPr>
          <p:spPr>
            <a:xfrm>
              <a:off x="362520" y="369720"/>
              <a:ext cx="8417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【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】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：已知图中电流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191966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 =10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√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2cos(</a:t>
              </a:r>
              <a:r>
                <a:rPr b="1" lang="el-GR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ω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+60</a:t>
              </a:r>
              <a:r>
                <a:rPr b="1" lang="en-US" sz="2800" spc="-1" strike="noStrike">
                  <a:solidFill>
                    <a:srgbClr val="191966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A ,          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1919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= 5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  <a:ea typeface="Times New Roman"/>
                </a:rPr>
                <a:t>√2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 sin(</a:t>
              </a:r>
              <a:r>
                <a:rPr b="1" lang="el-GR" sz="2400" spc="-1" strike="noStrike">
                  <a:solidFill>
                    <a:srgbClr val="191966"/>
                  </a:solidFill>
                  <a:latin typeface="Times New Roman"/>
                </a:rPr>
                <a:t>ω</a:t>
              </a:r>
              <a:r>
                <a:rPr b="1" i="1" lang="en-US" sz="2800" spc="-1" strike="noStrike">
                  <a:solidFill>
                    <a:srgbClr val="191966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191966"/>
                  </a:solidFill>
                  <a:latin typeface="Times New Roman"/>
                </a:rPr>
                <a:t>)A</a:t>
              </a:r>
              <a:r>
                <a:rPr b="1" lang="zh-CN" sz="2800" spc="-1" strike="noStrike">
                  <a:solidFill>
                    <a:srgbClr val="191966"/>
                  </a:solidFill>
                  <a:latin typeface="Times New Roman"/>
                </a:rPr>
                <a:t>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试求电流有效值相量及其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1"/>
            <p:cNvSpPr/>
            <p:nvPr/>
          </p:nvSpPr>
          <p:spPr>
            <a:xfrm flipV="1">
              <a:off x="5632560" y="446040"/>
              <a:ext cx="1882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2"/>
            <p:cNvSpPr/>
            <p:nvPr/>
          </p:nvSpPr>
          <p:spPr>
            <a:xfrm>
              <a:off x="1745640" y="875880"/>
              <a:ext cx="18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组合 2"/>
          <p:cNvGrpSpPr/>
          <p:nvPr/>
        </p:nvGrpSpPr>
        <p:grpSpPr>
          <a:xfrm>
            <a:off x="108000" y="1203480"/>
            <a:ext cx="5524560" cy="759240"/>
            <a:chOff x="108000" y="1203480"/>
            <a:chExt cx="5524560" cy="759240"/>
          </a:xfrm>
        </p:grpSpPr>
        <p:sp>
          <p:nvSpPr>
            <p:cNvPr id="739" name="Text Box 6"/>
            <p:cNvSpPr/>
            <p:nvPr/>
          </p:nvSpPr>
          <p:spPr>
            <a:xfrm>
              <a:off x="108000" y="1281600"/>
              <a:ext cx="55245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解</a:t>
              </a: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效值相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66"/>
            <p:cNvSpPr/>
            <p:nvPr/>
          </p:nvSpPr>
          <p:spPr>
            <a:xfrm>
              <a:off x="3132000" y="120348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组合 3"/>
          <p:cNvGrpSpPr/>
          <p:nvPr/>
        </p:nvGrpSpPr>
        <p:grpSpPr>
          <a:xfrm>
            <a:off x="666720" y="1708200"/>
            <a:ext cx="4984920" cy="774000"/>
            <a:chOff x="666720" y="1708200"/>
            <a:chExt cx="4984920" cy="774000"/>
          </a:xfrm>
        </p:grpSpPr>
        <p:sp>
          <p:nvSpPr>
            <p:cNvPr id="742" name="Text Box 64"/>
            <p:cNvSpPr/>
            <p:nvPr/>
          </p:nvSpPr>
          <p:spPr>
            <a:xfrm>
              <a:off x="703800" y="170820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6"/>
            <p:cNvSpPr/>
            <p:nvPr/>
          </p:nvSpPr>
          <p:spPr>
            <a:xfrm>
              <a:off x="666720" y="1902600"/>
              <a:ext cx="498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5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90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作相量模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4" name="Object 62"/>
              <p:cNvSpPr txBox="1"/>
              <p:nvPr/>
            </p:nvSpPr>
            <p:spPr>
              <a:xfrm>
                <a:off x="1116000" y="4021200"/>
                <a:ext cx="5018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45" name="对象 46"/>
          <p:cNvGraphicFramePr/>
          <p:nvPr/>
        </p:nvGraphicFramePr>
        <p:xfrm>
          <a:off x="706320" y="3562200"/>
          <a:ext cx="643284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对象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3562200"/>
                    <a:ext cx="6432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7" name="组合 47"/>
          <p:cNvGrpSpPr/>
          <p:nvPr/>
        </p:nvGrpSpPr>
        <p:grpSpPr>
          <a:xfrm>
            <a:off x="698400" y="2386080"/>
            <a:ext cx="4305240" cy="714600"/>
            <a:chOff x="698400" y="2386080"/>
            <a:chExt cx="4305240" cy="714600"/>
          </a:xfrm>
        </p:grpSpPr>
        <p:graphicFrame>
          <p:nvGraphicFramePr>
            <p:cNvPr id="748" name="Object 60"/>
            <p:cNvGraphicFramePr/>
            <p:nvPr/>
          </p:nvGraphicFramePr>
          <p:xfrm>
            <a:off x="2560320" y="2529360"/>
            <a:ext cx="244332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9" name="Object 6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60320" y="2529360"/>
                      <a:ext cx="244332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0" name="Text Box 61"/>
            <p:cNvSpPr/>
            <p:nvPr/>
          </p:nvSpPr>
          <p:spPr>
            <a:xfrm>
              <a:off x="698400" y="2386080"/>
              <a:ext cx="22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KC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组合 4"/>
          <p:cNvGrpSpPr/>
          <p:nvPr/>
        </p:nvGrpSpPr>
        <p:grpSpPr>
          <a:xfrm>
            <a:off x="5580000" y="1181520"/>
            <a:ext cx="3168720" cy="1750680"/>
            <a:chOff x="5580000" y="1181520"/>
            <a:chExt cx="3168720" cy="1750680"/>
          </a:xfrm>
        </p:grpSpPr>
        <p:sp>
          <p:nvSpPr>
            <p:cNvPr id="752" name="Rectangle 15"/>
            <p:cNvSpPr/>
            <p:nvPr/>
          </p:nvSpPr>
          <p:spPr>
            <a:xfrm>
              <a:off x="6975360" y="2189160"/>
              <a:ext cx="457200" cy="399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16"/>
            <p:cNvSpPr/>
            <p:nvPr/>
          </p:nvSpPr>
          <p:spPr>
            <a:xfrm>
              <a:off x="6215040" y="1846080"/>
              <a:ext cx="76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17"/>
            <p:cNvSpPr/>
            <p:nvPr/>
          </p:nvSpPr>
          <p:spPr>
            <a:xfrm>
              <a:off x="7205760" y="18460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18"/>
            <p:cNvSpPr/>
            <p:nvPr/>
          </p:nvSpPr>
          <p:spPr>
            <a:xfrm>
              <a:off x="6900840" y="1846080"/>
              <a:ext cx="1219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19"/>
            <p:cNvSpPr/>
            <p:nvPr/>
          </p:nvSpPr>
          <p:spPr>
            <a:xfrm>
              <a:off x="7891560" y="2189160"/>
              <a:ext cx="457200" cy="399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0"/>
            <p:cNvSpPr/>
            <p:nvPr/>
          </p:nvSpPr>
          <p:spPr>
            <a:xfrm>
              <a:off x="8120520" y="18460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21"/>
            <p:cNvSpPr/>
            <p:nvPr/>
          </p:nvSpPr>
          <p:spPr>
            <a:xfrm>
              <a:off x="6215040" y="2932200"/>
              <a:ext cx="1905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22"/>
            <p:cNvSpPr/>
            <p:nvPr/>
          </p:nvSpPr>
          <p:spPr>
            <a:xfrm>
              <a:off x="8120520" y="25894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23"/>
            <p:cNvSpPr/>
            <p:nvPr/>
          </p:nvSpPr>
          <p:spPr>
            <a:xfrm>
              <a:off x="7205760" y="25894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24"/>
            <p:cNvSpPr/>
            <p:nvPr/>
          </p:nvSpPr>
          <p:spPr>
            <a:xfrm flipH="1">
              <a:off x="5833800" y="18460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25"/>
            <p:cNvSpPr/>
            <p:nvPr/>
          </p:nvSpPr>
          <p:spPr>
            <a:xfrm flipH="1">
              <a:off x="5833800" y="2932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26"/>
            <p:cNvSpPr/>
            <p:nvPr/>
          </p:nvSpPr>
          <p:spPr>
            <a:xfrm flipV="1">
              <a:off x="5833800" y="2017440"/>
              <a:ext cx="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27"/>
            <p:cNvSpPr/>
            <p:nvPr/>
          </p:nvSpPr>
          <p:spPr>
            <a:xfrm>
              <a:off x="583380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28"/>
            <p:cNvSpPr/>
            <p:nvPr/>
          </p:nvSpPr>
          <p:spPr>
            <a:xfrm flipV="1">
              <a:off x="5833800" y="1846080"/>
              <a:ext cx="0" cy="3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29"/>
            <p:cNvSpPr/>
            <p:nvPr/>
          </p:nvSpPr>
          <p:spPr>
            <a:xfrm>
              <a:off x="6519960" y="1293480"/>
              <a:ext cx="762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32"/>
            <p:cNvSpPr/>
            <p:nvPr/>
          </p:nvSpPr>
          <p:spPr>
            <a:xfrm>
              <a:off x="6973920" y="224388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33"/>
            <p:cNvSpPr/>
            <p:nvPr/>
          </p:nvSpPr>
          <p:spPr>
            <a:xfrm>
              <a:off x="6181560" y="18514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34"/>
            <p:cNvSpPr/>
            <p:nvPr/>
          </p:nvSpPr>
          <p:spPr>
            <a:xfrm flipH="1">
              <a:off x="7202520" y="1846080"/>
              <a:ext cx="288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35"/>
            <p:cNvSpPr/>
            <p:nvPr/>
          </p:nvSpPr>
          <p:spPr>
            <a:xfrm>
              <a:off x="6900840" y="18460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36"/>
            <p:cNvSpPr/>
            <p:nvPr/>
          </p:nvSpPr>
          <p:spPr>
            <a:xfrm>
              <a:off x="7891560" y="218916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37"/>
            <p:cNvSpPr/>
            <p:nvPr/>
          </p:nvSpPr>
          <p:spPr>
            <a:xfrm>
              <a:off x="8120520" y="18460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38"/>
            <p:cNvSpPr/>
            <p:nvPr/>
          </p:nvSpPr>
          <p:spPr>
            <a:xfrm>
              <a:off x="6215040" y="293220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39"/>
            <p:cNvSpPr/>
            <p:nvPr/>
          </p:nvSpPr>
          <p:spPr>
            <a:xfrm>
              <a:off x="812052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40"/>
            <p:cNvSpPr/>
            <p:nvPr/>
          </p:nvSpPr>
          <p:spPr>
            <a:xfrm>
              <a:off x="7205760" y="2644560"/>
              <a:ext cx="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41"/>
            <p:cNvSpPr/>
            <p:nvPr/>
          </p:nvSpPr>
          <p:spPr>
            <a:xfrm flipH="1">
              <a:off x="5821200" y="1851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42"/>
            <p:cNvSpPr/>
            <p:nvPr/>
          </p:nvSpPr>
          <p:spPr>
            <a:xfrm flipH="1">
              <a:off x="5833800" y="2932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43"/>
            <p:cNvSpPr/>
            <p:nvPr/>
          </p:nvSpPr>
          <p:spPr>
            <a:xfrm>
              <a:off x="5833800" y="25894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46"/>
            <p:cNvSpPr/>
            <p:nvPr/>
          </p:nvSpPr>
          <p:spPr>
            <a:xfrm>
              <a:off x="5580000" y="215748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组合 3"/>
            <p:cNvGrpSpPr/>
            <p:nvPr/>
          </p:nvGrpSpPr>
          <p:grpSpPr>
            <a:xfrm>
              <a:off x="6767640" y="1181520"/>
              <a:ext cx="604800" cy="692280"/>
              <a:chOff x="6767640" y="1181520"/>
              <a:chExt cx="604800" cy="692280"/>
            </a:xfrm>
          </p:grpSpPr>
          <p:sp>
            <p:nvSpPr>
              <p:cNvPr id="781" name="Text Box 66"/>
              <p:cNvSpPr/>
              <p:nvPr/>
            </p:nvSpPr>
            <p:spPr>
              <a:xfrm rot="21060000">
                <a:off x="6848280" y="1206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文本框 4"/>
              <p:cNvSpPr/>
              <p:nvPr/>
            </p:nvSpPr>
            <p:spPr>
              <a:xfrm>
                <a:off x="6767640" y="1414080"/>
                <a:ext cx="60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组合 6"/>
            <p:cNvGrpSpPr/>
            <p:nvPr/>
          </p:nvGrpSpPr>
          <p:grpSpPr>
            <a:xfrm>
              <a:off x="7207560" y="1610640"/>
              <a:ext cx="604800" cy="742680"/>
              <a:chOff x="7207560" y="1610640"/>
              <a:chExt cx="604800" cy="742680"/>
            </a:xfrm>
          </p:grpSpPr>
          <p:sp>
            <p:nvSpPr>
              <p:cNvPr id="784" name="Text Box 66"/>
              <p:cNvSpPr/>
              <p:nvPr/>
            </p:nvSpPr>
            <p:spPr>
              <a:xfrm rot="21060000">
                <a:off x="7245720" y="1635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文本框 8"/>
              <p:cNvSpPr/>
              <p:nvPr/>
            </p:nvSpPr>
            <p:spPr>
              <a:xfrm>
                <a:off x="7207560" y="1843200"/>
                <a:ext cx="604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组合 9"/>
            <p:cNvGrpSpPr/>
            <p:nvPr/>
          </p:nvGrpSpPr>
          <p:grpSpPr>
            <a:xfrm>
              <a:off x="8142480" y="1521360"/>
              <a:ext cx="606240" cy="742680"/>
              <a:chOff x="8142480" y="1521360"/>
              <a:chExt cx="606240" cy="742680"/>
            </a:xfrm>
          </p:grpSpPr>
          <p:sp>
            <p:nvSpPr>
              <p:cNvPr id="787" name="Text Box 66"/>
              <p:cNvSpPr/>
              <p:nvPr/>
            </p:nvSpPr>
            <p:spPr>
              <a:xfrm rot="21060000">
                <a:off x="8223840" y="1545840"/>
                <a:ext cx="35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文本框 11"/>
              <p:cNvSpPr/>
              <p:nvPr/>
            </p:nvSpPr>
            <p:spPr>
              <a:xfrm>
                <a:off x="8142480" y="175392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89" name="Object 62"/>
              <p:cNvSpPr txBox="1"/>
              <p:nvPr/>
            </p:nvSpPr>
            <p:spPr>
              <a:xfrm>
                <a:off x="828720" y="3084480"/>
                <a:ext cx="3889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0" name="图片 2" descr=""/>
          <p:cNvPicPr/>
          <p:nvPr/>
        </p:nvPicPr>
        <p:blipFill>
          <a:blip r:embed="rId5"/>
          <a:stretch/>
        </p:blipFill>
        <p:spPr>
          <a:xfrm>
            <a:off x="7219800" y="3000240"/>
            <a:ext cx="1616400" cy="20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Object 1"/>
          <p:cNvGraphicFramePr/>
          <p:nvPr/>
        </p:nvGraphicFramePr>
        <p:xfrm>
          <a:off x="1236600" y="1305000"/>
          <a:ext cx="175752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1305000"/>
                    <a:ext cx="17575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矩形 4"/>
          <p:cNvSpPr/>
          <p:nvPr/>
        </p:nvSpPr>
        <p:spPr>
          <a:xfrm>
            <a:off x="215280" y="149220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V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4" name="Object 2"/>
          <p:cNvGraphicFramePr/>
          <p:nvPr/>
        </p:nvGraphicFramePr>
        <p:xfrm>
          <a:off x="3995640" y="1308240"/>
          <a:ext cx="414972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1308240"/>
                    <a:ext cx="41497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右箭头 12"/>
          <p:cNvSpPr/>
          <p:nvPr/>
        </p:nvSpPr>
        <p:spPr>
          <a:xfrm>
            <a:off x="3076560" y="1644480"/>
            <a:ext cx="785880" cy="214560"/>
          </a:xfrm>
          <a:prstGeom prst="rightArrow">
            <a:avLst>
              <a:gd name="adj1" fmla="val 50000"/>
              <a:gd name="adj2" fmla="val 49905"/>
            </a:avLst>
          </a:pr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矩形 14"/>
          <p:cNvSpPr/>
          <p:nvPr/>
        </p:nvSpPr>
        <p:spPr>
          <a:xfrm>
            <a:off x="285840" y="2643120"/>
            <a:ext cx="8215200" cy="62712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相量形式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V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定律：对于具有相同频率的正弦电流电路中的任一回路，沿该回路全部支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电压相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代数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等于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矩形 16"/>
          <p:cNvSpPr/>
          <p:nvPr/>
        </p:nvSpPr>
        <p:spPr>
          <a:xfrm>
            <a:off x="250920" y="33984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 、基尔霍夫电压定律的相量形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6"/>
          <p:cNvSpPr/>
          <p:nvPr/>
        </p:nvSpPr>
        <p:spPr>
          <a:xfrm>
            <a:off x="395280" y="17082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量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V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Object 86"/>
          <p:cNvGraphicFramePr/>
          <p:nvPr/>
        </p:nvGraphicFramePr>
        <p:xfrm>
          <a:off x="1136520" y="2340000"/>
          <a:ext cx="283860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Object 8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2340000"/>
                    <a:ext cx="2838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2" name="Group 115"/>
          <p:cNvGrpSpPr/>
          <p:nvPr/>
        </p:nvGrpSpPr>
        <p:grpSpPr>
          <a:xfrm>
            <a:off x="324000" y="257040"/>
            <a:ext cx="8472240" cy="1441440"/>
            <a:chOff x="324000" y="257040"/>
            <a:chExt cx="8472240" cy="1441440"/>
          </a:xfrm>
        </p:grpSpPr>
        <p:sp>
          <p:nvSpPr>
            <p:cNvPr id="803" name="AutoShape 93"/>
            <p:cNvSpPr/>
            <p:nvPr/>
          </p:nvSpPr>
          <p:spPr>
            <a:xfrm>
              <a:off x="324000" y="339840"/>
              <a:ext cx="8358120" cy="1150920"/>
            </a:xfrm>
            <a:prstGeom prst="roundRect">
              <a:avLst>
                <a:gd name="adj" fmla="val 16301"/>
              </a:avLst>
            </a:prstGeom>
            <a:gradFill rotWithShape="0">
              <a:gsLst>
                <a:gs pos="0">
                  <a:srgbClr val="9c9cff"/>
                </a:gs>
                <a:gs pos="100000">
                  <a:srgbClr val="e4e4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4"/>
            <p:cNvSpPr/>
            <p:nvPr/>
          </p:nvSpPr>
          <p:spPr>
            <a:xfrm>
              <a:off x="395280" y="411120"/>
              <a:ext cx="840096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【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】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已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6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8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12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试求电压有效值相量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111"/>
            <p:cNvSpPr/>
            <p:nvPr/>
          </p:nvSpPr>
          <p:spPr>
            <a:xfrm>
              <a:off x="2919240" y="26676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112"/>
            <p:cNvSpPr/>
            <p:nvPr/>
          </p:nvSpPr>
          <p:spPr>
            <a:xfrm>
              <a:off x="5248080" y="25704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113"/>
            <p:cNvSpPr/>
            <p:nvPr/>
          </p:nvSpPr>
          <p:spPr>
            <a:xfrm>
              <a:off x="554040" y="91584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114"/>
            <p:cNvSpPr/>
            <p:nvPr/>
          </p:nvSpPr>
          <p:spPr>
            <a:xfrm>
              <a:off x="6313320" y="90648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126"/>
          <p:cNvGrpSpPr/>
          <p:nvPr/>
        </p:nvGrpSpPr>
        <p:grpSpPr>
          <a:xfrm>
            <a:off x="5248440" y="1409760"/>
            <a:ext cx="3716280" cy="2229120"/>
            <a:chOff x="5248440" y="1409760"/>
            <a:chExt cx="3716280" cy="2229120"/>
          </a:xfrm>
        </p:grpSpPr>
        <p:sp>
          <p:nvSpPr>
            <p:cNvPr id="810" name="Text Box 118"/>
            <p:cNvSpPr/>
            <p:nvPr/>
          </p:nvSpPr>
          <p:spPr>
            <a:xfrm>
              <a:off x="8029800" y="1779480"/>
              <a:ext cx="934920" cy="17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13"/>
            <p:cNvSpPr/>
            <p:nvPr/>
          </p:nvSpPr>
          <p:spPr>
            <a:xfrm>
              <a:off x="8056440" y="213984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18"/>
            <p:cNvSpPr/>
            <p:nvPr/>
          </p:nvSpPr>
          <p:spPr>
            <a:xfrm flipH="1">
              <a:off x="7243560" y="3363840"/>
              <a:ext cx="81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23"/>
            <p:cNvSpPr/>
            <p:nvPr/>
          </p:nvSpPr>
          <p:spPr>
            <a:xfrm>
              <a:off x="6400800" y="1420920"/>
              <a:ext cx="13669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25"/>
            <p:cNvSpPr/>
            <p:nvPr/>
          </p:nvSpPr>
          <p:spPr>
            <a:xfrm>
              <a:off x="6735960" y="199548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8"/>
            <p:cNvSpPr/>
            <p:nvPr/>
          </p:nvSpPr>
          <p:spPr>
            <a:xfrm>
              <a:off x="7193160" y="2139840"/>
              <a:ext cx="86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29"/>
            <p:cNvSpPr/>
            <p:nvPr/>
          </p:nvSpPr>
          <p:spPr>
            <a:xfrm>
              <a:off x="7767720" y="260352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32"/>
            <p:cNvSpPr/>
            <p:nvPr/>
          </p:nvSpPr>
          <p:spPr>
            <a:xfrm>
              <a:off x="8056440" y="300348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36"/>
            <p:cNvSpPr/>
            <p:nvPr/>
          </p:nvSpPr>
          <p:spPr>
            <a:xfrm>
              <a:off x="5967360" y="2139840"/>
              <a:ext cx="0" cy="120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6807240" y="3108240"/>
              <a:ext cx="457200" cy="3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107"/>
            <p:cNvSpPr/>
            <p:nvPr/>
          </p:nvSpPr>
          <p:spPr>
            <a:xfrm flipH="1">
              <a:off x="5967360" y="3363840"/>
              <a:ext cx="81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108"/>
            <p:cNvSpPr/>
            <p:nvPr/>
          </p:nvSpPr>
          <p:spPr>
            <a:xfrm flipH="1">
              <a:off x="5967360" y="2139840"/>
              <a:ext cx="74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109"/>
            <p:cNvSpPr/>
            <p:nvPr/>
          </p:nvSpPr>
          <p:spPr>
            <a:xfrm>
              <a:off x="5751720" y="2643120"/>
              <a:ext cx="431640" cy="36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110"/>
            <p:cNvSpPr/>
            <p:nvPr/>
          </p:nvSpPr>
          <p:spPr>
            <a:xfrm>
              <a:off x="6918120" y="140976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116"/>
            <p:cNvSpPr/>
            <p:nvPr/>
          </p:nvSpPr>
          <p:spPr>
            <a:xfrm>
              <a:off x="6472440" y="2506680"/>
              <a:ext cx="12236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17"/>
            <p:cNvSpPr/>
            <p:nvPr/>
          </p:nvSpPr>
          <p:spPr>
            <a:xfrm>
              <a:off x="6858360" y="2435040"/>
              <a:ext cx="2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19"/>
            <p:cNvSpPr/>
            <p:nvPr/>
          </p:nvSpPr>
          <p:spPr>
            <a:xfrm>
              <a:off x="8272440" y="221148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 Box 122"/>
            <p:cNvSpPr/>
            <p:nvPr/>
          </p:nvSpPr>
          <p:spPr>
            <a:xfrm>
              <a:off x="5248440" y="1962000"/>
              <a:ext cx="1224000" cy="16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123"/>
            <p:cNvSpPr/>
            <p:nvPr/>
          </p:nvSpPr>
          <p:spPr>
            <a:xfrm>
              <a:off x="5405400" y="2282760"/>
              <a:ext cx="2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9" name="对象 1"/>
          <p:cNvGraphicFramePr/>
          <p:nvPr/>
        </p:nvGraphicFramePr>
        <p:xfrm>
          <a:off x="1612800" y="2803680"/>
          <a:ext cx="3710160" cy="16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0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2800" y="2803680"/>
                    <a:ext cx="371016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1" name="图片 3" descr=""/>
          <p:cNvPicPr/>
          <p:nvPr/>
        </p:nvPicPr>
        <p:blipFill>
          <a:blip r:embed="rId5"/>
          <a:stretch/>
        </p:blipFill>
        <p:spPr>
          <a:xfrm>
            <a:off x="6253200" y="3691080"/>
            <a:ext cx="142236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3:31:17Z</dcterms:created>
  <dc:creator>shyl</dc:creator>
  <dc:description/>
  <dc:language>en-US</dc:language>
  <cp:lastModifiedBy>Qu Ke</cp:lastModifiedBy>
  <dcterms:modified xsi:type="dcterms:W3CDTF">2020-04-13T06:15:07Z</dcterms:modified>
  <cp:revision>12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03</vt:lpwstr>
  </property>
</Properties>
</file>