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4.wmf" ContentType="image/x-wmf"/>
  <Override PartName="/ppt/media/image52.png" ContentType="image/png"/>
  <Override PartName="/ppt/media/image51.png" ContentType="image/png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86.png" ContentType="image/png"/>
  <Override PartName="/ppt/media/image42.png" ContentType="image/png"/>
  <Override PartName="/ppt/media/image38.wmf" ContentType="image/x-wmf"/>
  <Override PartName="/ppt/media/image37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50.wmf" ContentType="image/x-wmf"/>
  <Override PartName="/ppt/media/image10.png" ContentType="image/png"/>
  <Override PartName="/ppt/media/image78.wmf" ContentType="image/x-wmf"/>
  <Override PartName="/ppt/media/image35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4.wmf" ContentType="image/x-wmf"/>
  <Override PartName="/ppt/media/image23.wmf" ContentType="image/x-wmf"/>
  <Override PartName="/ppt/media/image60.wmf" ContentType="image/x-wmf"/>
  <Override PartName="/ppt/media/image20.png" ContentType="image/png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4.wmf" ContentType="image/x-wmf"/>
  <Override PartName="/ppt/media/image85.jpeg" ContentType="image/jpeg"/>
  <Override PartName="/ppt/media/image72.wmf" ContentType="image/x-wmf"/>
  <Override PartName="/ppt/media/image2.png" ContentType="image/png"/>
  <Override PartName="/ppt/media/image81.wmf" ContentType="image/x-wmf"/>
  <Override PartName="/ppt/media/image80.wmf" ContentType="image/x-wmf"/>
  <Override PartName="/ppt/media/image77.wmf" ContentType="image/x-wmf"/>
  <Override PartName="/ppt/media/image40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69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56.wmf" ContentType="image/x-wmf"/>
  <Override PartName="/ppt/media/image4.png" ContentType="image/png"/>
  <Override PartName="/ppt/media/image16.png" ContentType="image/png"/>
  <Override PartName="/ppt/media/image55.wmf" ContentType="image/x-wmf"/>
  <Override PartName="/ppt/media/image3.png" ContentType="image/png"/>
  <Override PartName="/ppt/media/image15.png" ContentType="image/png"/>
  <Override PartName="/ppt/media/image14.wmf" ContentType="image/x-wmf"/>
  <Override PartName="/ppt/media/image79.wmf" ContentType="image/x-wmf"/>
  <Override PartName="/ppt/media/image11.png" ContentType="image/png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2.png" ContentType="image/png"/>
  <Override PartName="/ppt/media/image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39.png" ContentType="image/png"/>
  <Override PartName="/ppt/media/image61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6FA-16A3-4BB1-AB9A-80EE26B1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92E-B8E6-42ED-A41D-0A7B1DCF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435B1-5C2E-4BBB-B82E-B954C946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420FD-9449-4FDF-B67B-EB60F376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2477B-F35E-47E9-9232-5804BCDB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129B4-3EDC-4391-A523-19902704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F14E0-2D8C-47D5-84B0-813DCE8A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4628A-3544-4D37-80F9-78919B53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C7312-5EED-4A86-A2BE-6931D815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14A25-0D41-4563-96AA-63A61383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A5057-6059-4D54-99CA-4DCDE863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860C9-2530-4C98-BCDE-D78E95AD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D85-FE1E-409B-A1B7-DB92AAD9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1D2F7-B62F-4F1F-9983-59F7ABBC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6C507-15FF-425F-A96A-3B6D1E90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D034D-8476-4BE4-8AAB-60F9BBBF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ECAC5-A6D1-4ABB-8AB0-4C782C15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7CB3A-C497-4DDC-8A03-ECE912B6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F074E-3AD6-4FDC-B744-7987DC3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018C8-A975-4F81-9913-A6AF0084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C720A-66CE-489A-AAEB-9CAAB536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5163A-87BE-4AA6-AE0A-E6F54422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829AD-7ECA-4832-A0C3-064172F2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9AC-EF07-451B-A76A-1851BCD3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FEE1E-646F-4D69-8AD5-B83BFB5F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AA511-81A0-4E21-82A1-30AFBF7C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9E403-CD1B-4001-81D6-42F1D9A7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45720-3C3E-4E4E-96BA-21DE2569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EECDF-EB81-4C10-ADEB-5272867E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0A696-2734-4F67-BC77-5BE482EE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B09DA-CA9B-42B2-87D5-551F20B7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D1BF7-45EC-40B0-B52A-B21F42D4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2D967-DF67-41D2-8B2A-A199AFB6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968BA-784A-44EA-9707-43E5C3BD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7DD7-31FD-42D9-9E52-DEA43C71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2A546-0461-4BEB-B10D-805EDE7B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97030-70E6-499A-A971-41D3A53E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175EB-2024-46D7-B9BF-9A95FC61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7AD93-5C4C-4FA7-894B-D1C28480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088E4-8BF2-4FAC-8298-9947F7C4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B78FA-819A-4160-B941-4B63247D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9C896-5F2E-40CA-8240-4EBC8CB1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E1D85-49E8-45F3-8323-4E61F440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FEECF-2EA7-4E5B-BACB-9DB990B1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5BFA3-63AF-487D-873D-1EBCEDC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9749-6174-48D0-B3A2-864AE5DC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98AFD-C422-43A8-8569-77AEE25B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6154C-84F4-4858-9572-CFB4AFC3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20CF2-4C7D-48ED-B8B9-1CDF8E60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4FF32-DA5E-4993-BF57-2C87F85A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6E328-DA0C-4C5B-99D7-AC4D106A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3E0D7-68F3-4173-987A-36CD86D5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F968C-012A-4F4B-A518-10869332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4516B-1A2C-4DDD-A5F7-AD39BDE0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E16B3-231A-41E9-89A9-10C32A9E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6110A-F06B-41EA-A0F2-41A23126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C38A-AF73-428B-9081-DC3BB55B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4A9E3-A4B0-4DA5-A0E6-C15F9BD7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40EF2-B7DC-4943-8A20-587F8E77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3ADCC-6CE5-4E70-A7A9-A12DC0DF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62133-419B-4C56-9045-46BA7D3F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B868A-667F-463F-AB6C-E56FB64C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BB6A6-3309-4599-955E-DBFA1136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43180-733D-4198-9C66-0813A01B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0C65-622B-46F0-B2EE-E5170772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ED5B-6004-4889-BD72-F4B12E78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2A65-02DA-4992-A15F-AA68B786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CCD1-BFFA-489C-BF50-62041C17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D9E-603B-45DA-952C-0E30275E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1FFB-9848-4269-9951-910FA5B3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62DB-4A4B-4A98-8205-08412F9E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BCF5-5B3C-4221-A7A4-6029FC61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EC29-9492-45EE-B592-52E5C0A0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9F7D-0911-47B4-8DF3-629C07A4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6EB7-1C4B-4FE8-A083-2FC9DBEF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5F77-19EF-438C-B7B0-F4348ECE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96F0-E19E-4E8D-AEB5-855925F8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3C7A-06C4-4125-8BC9-0AAC9923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A9DF-3D21-46AC-9E5F-15C1E041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03D-9802-48A0-B7BE-DCD65A50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EEF9-B993-449F-B0F8-9F058170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B62B-6B4B-4100-82FA-83F8FD97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B6B3-FDF2-4E32-9D5D-ADCF689C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21A26-940C-4656-BEF9-7CCE646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ED119-AF47-4E7A-B6FB-7206C09A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2339-DC1F-4C55-A6C1-6BE994B3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1515-6D52-4492-A494-4C8ED2BE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F1393-5FAB-49C7-8B82-F63D24B1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B718C-D0FD-492D-AA4D-360279E7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8205F-49A6-4AD1-98F7-2BCCCC3B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B9E-1FD8-40A3-8794-96075B27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04BA5-7460-4BE3-A7CF-A209CAFC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F82DF-8474-468D-A633-BDCFD15C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25CC9-16CF-46CA-BE6F-642018CB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EF50-4152-4930-B211-CDC808F1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32D9-02E8-4A3E-88F8-2F364F11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F12DC-0F61-4AB7-A47C-324AEDEE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AA5A5-5C75-4F5F-B4C7-4A7408BF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B4B71-5718-46BE-82A4-7755B57A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7BEE3-6FDF-4DCD-8E96-B7B0F844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9FBA3-C753-4D0F-8544-4B0F3452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BF8-A515-43CC-9A6E-364AE407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D419A-4C5B-4D66-9A5F-EC16E3C2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8F86A-93B1-455B-B420-1E891699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53B50-589F-49E5-98B8-C9DFCBF7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C168F-4179-428A-8CE3-AAB7E184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02112-FBE9-4F9F-804B-CF797A63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91EBA-3EA5-4816-B32D-051A0E9A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4940B-25F1-482B-8EE4-20514976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AD879-F2CA-4925-BEB0-30A8D454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5A443-EB36-427F-9DEF-4F39981B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DBF21-1F8C-4A78-8373-8040678E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BE7-BC3B-4EB5-880B-577E334D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15131-6716-45D8-A674-9ED9E428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01A27-B947-4449-8ECF-F0CABAB9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A35AD-15C6-4843-A052-A56A777B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E5CE3-76CD-4106-8FFB-2DB01F66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1C97C-CA45-4310-9192-9649A870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D2409-FCC6-4D60-B77D-DD8D66E4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E8024-24DD-4A6F-894A-7ECC3FC0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9E33D-5FE6-4E8B-968D-16CA870F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F503D-7DA6-47F7-91BF-A16A936B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7A916-3782-469A-9F71-227CEA3F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2BE-1317-4C58-A859-5122F54A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59E98-2200-4853-B0C9-A8944B6A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9545E-F98F-4814-96AF-8BF0DB8A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4927C-11E8-4D90-AAE3-59646D5A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EA66E-F4C9-4A5A-A253-8099F75E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182A8-5270-417E-926A-CBD3A887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7FDEF-0695-46BB-A8C4-ED8B3916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A0948-6E95-4FD2-BD85-F54028CA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9047A-90D3-4D6C-A0CD-5994F710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9BCD4-C3EF-4F12-A69D-8CA2DF47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C0032-2468-41B8-8D0A-FE18BC70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118-297D-480B-9F4B-2EBD07A2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0D136-75E4-424D-92C4-597B5972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7FC92-EBE4-45AC-9A36-10987EFD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0DB8B-935B-4FBB-9A88-3F2E1287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E67AD-B5AF-4321-8EDD-B02939CE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39C62-28E8-44F1-9FDD-E9677FDE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AE327-0955-4900-BFE2-7783ED44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6440F-CFBE-4413-AC9F-3FFDA9F1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A7B55-7971-425B-A8B4-E0185C90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8FED9-3B37-4A56-96C8-6AD789EF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A9446-285D-46E9-93DE-93927CE8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AE6-298D-479F-9315-3FBFF62F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94E3E-A40F-46A5-9D7A-A43D5157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52AC7-6FA0-481B-953D-532028B9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B4C9D-7D93-4A2B-ADCD-ED9605C4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89411-6115-419F-B9AA-7A34C9E5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D2DEA-D26A-474F-9575-B1A35B20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001EA-3189-4C3A-BF1B-0DCD3B0F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F4B96-59AF-497A-8829-C8FFE11A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D96B6-47F9-4729-B39F-A2309038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05FB0-812D-44A7-8A64-0646C858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5C80A-C311-4337-A786-8F06BCEB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9495-D5D6-4F30-BD31-555BCAE3FE0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413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TextBox 15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8854-D9CA-4C1B-B1A5-7DFD67E262BF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459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TextBox 10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A193-7638-44A7-A959-CB64F8A5F062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505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TextBox 10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A940-B43A-47A8-85E3-DFA76FFA852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551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TextBox 9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F987-C18F-4A84-BB0F-8939A1D071D9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177840" y="160200"/>
            <a:ext cx="642960" cy="64296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"/>
          <p:cNvGrpSpPr/>
          <p:nvPr/>
        </p:nvGrpSpPr>
        <p:grpSpPr>
          <a:xfrm>
            <a:off x="34920" y="33480"/>
            <a:ext cx="3673440" cy="2609640"/>
            <a:chOff x="34920" y="33480"/>
            <a:chExt cx="3673440" cy="2609640"/>
          </a:xfrm>
        </p:grpSpPr>
        <p:sp>
          <p:nvSpPr>
            <p:cNvPr id="45" name="Rectangle 4"/>
            <p:cNvSpPr/>
            <p:nvPr/>
          </p:nvSpPr>
          <p:spPr>
            <a:xfrm>
              <a:off x="34920" y="3348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34920" y="70200"/>
              <a:ext cx="39960" cy="2572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8553-B64F-47B9-94D8-79BB3E64E6FE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0" y="48672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节点电位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91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TextBox 11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3982-E655-4996-A5EF-DC1CD5E740D3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137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TextBox 10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021B-939A-447D-9072-C977B5C8D6F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183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TextBox 11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68C0-B760-4B1D-A293-4E789375218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229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Box 13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0696-2126-4930-823C-6BD0B62B8281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275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TextBox 9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8AED-1D41-4847-8ECB-90CCCAC48EC2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321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TextBox 7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阶跃信号和阶跃响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E214-2BEC-405D-A4BF-5B14178EAC2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367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TextBox 11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D15F-8B12-4A30-A507-1562D2247C9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58.wmf"/><Relationship Id="rId1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3.wmf"/><Relationship Id="rId1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9.wmf"/><Relationship Id="rId1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7.wmf"/><Relationship Id="rId17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1.wmf"/><Relationship Id="rId1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wmf"/><Relationship Id="rId1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8.wmf"/><Relationship Id="rId16" Type="http://schemas.openxmlformats.org/officeDocument/2006/relationships/image" Target="../media/image39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41.wmf"/><Relationship Id="rId21" Type="http://schemas.openxmlformats.org/officeDocument/2006/relationships/image" Target="../media/image42.png"/><Relationship Id="rId2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wmf"/><Relationship Id="rId1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2"/>
          <p:cNvSpPr/>
          <p:nvPr/>
        </p:nvSpPr>
        <p:spPr>
          <a:xfrm>
            <a:off x="3379680" y="17794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175d"/>
                </a:solidFill>
                <a:latin typeface="楷体_GB2312"/>
                <a:ea typeface="楷体_GB2312"/>
              </a:rPr>
              <a:t>阶跃信号和阶跃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圆角矩形 30"/>
          <p:cNvSpPr/>
          <p:nvPr/>
        </p:nvSpPr>
        <p:spPr>
          <a:xfrm>
            <a:off x="3762360" y="4206960"/>
            <a:ext cx="2736720" cy="793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圆角矩形 29"/>
          <p:cNvSpPr/>
          <p:nvPr/>
        </p:nvSpPr>
        <p:spPr>
          <a:xfrm>
            <a:off x="3708360" y="3219480"/>
            <a:ext cx="2735280" cy="7920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AutoShape 93"/>
          <p:cNvSpPr/>
          <p:nvPr/>
        </p:nvSpPr>
        <p:spPr>
          <a:xfrm>
            <a:off x="184320" y="271440"/>
            <a:ext cx="8856360" cy="800280"/>
          </a:xfrm>
          <a:prstGeom prst="roundRect">
            <a:avLst>
              <a:gd name="adj" fmla="val 16301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文本框 6"/>
          <p:cNvSpPr/>
          <p:nvPr/>
        </p:nvSpPr>
        <p:spPr>
          <a:xfrm>
            <a:off x="363600" y="268200"/>
            <a:ext cx="847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【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图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电路在图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脉冲电流作用下的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零状态响应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LZ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画出波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图片 15" descr=""/>
          <p:cNvPicPr/>
          <p:nvPr/>
        </p:nvPicPr>
        <p:blipFill>
          <a:blip r:embed="rId1"/>
          <a:stretch/>
        </p:blipFill>
        <p:spPr>
          <a:xfrm>
            <a:off x="4295880" y="1398600"/>
            <a:ext cx="2562120" cy="177156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19" descr=""/>
          <p:cNvPicPr/>
          <p:nvPr/>
        </p:nvPicPr>
        <p:blipFill>
          <a:blip r:embed="rId2"/>
          <a:stretch/>
        </p:blipFill>
        <p:spPr>
          <a:xfrm>
            <a:off x="1471680" y="1617840"/>
            <a:ext cx="2038320" cy="1552320"/>
          </a:xfrm>
          <a:prstGeom prst="rect">
            <a:avLst/>
          </a:prstGeom>
          <a:ln w="0">
            <a:noFill/>
          </a:ln>
        </p:spPr>
      </p:pic>
      <p:sp>
        <p:nvSpPr>
          <p:cNvPr id="766" name="文本框 20"/>
          <p:cNvSpPr/>
          <p:nvPr/>
        </p:nvSpPr>
        <p:spPr>
          <a:xfrm>
            <a:off x="325440" y="3508200"/>
            <a:ext cx="39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析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零状态响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LZ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7" name="对象 21"/>
          <p:cNvGraphicFramePr/>
          <p:nvPr/>
        </p:nvGraphicFramePr>
        <p:xfrm>
          <a:off x="3924360" y="3147840"/>
          <a:ext cx="1081080" cy="40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对象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147840"/>
                    <a:ext cx="1081080" cy="4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对象 24"/>
          <p:cNvGraphicFramePr/>
          <p:nvPr/>
        </p:nvGraphicFramePr>
        <p:xfrm>
          <a:off x="3924360" y="3651120"/>
          <a:ext cx="233820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0" name="对象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3651120"/>
                    <a:ext cx="2338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文本框 22"/>
          <p:cNvSpPr/>
          <p:nvPr/>
        </p:nvSpPr>
        <p:spPr>
          <a:xfrm>
            <a:off x="1650600" y="444348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阶跃响应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对象 23"/>
          <p:cNvGraphicFramePr/>
          <p:nvPr/>
        </p:nvGraphicFramePr>
        <p:xfrm>
          <a:off x="3978360" y="4135320"/>
          <a:ext cx="1082520" cy="40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3" name="对象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78360" y="4135320"/>
                    <a:ext cx="10825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对象 27"/>
          <p:cNvGraphicFramePr/>
          <p:nvPr/>
        </p:nvGraphicFramePr>
        <p:xfrm>
          <a:off x="3978360" y="4640400"/>
          <a:ext cx="1158840" cy="37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5" name="对象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78360" y="4640400"/>
                    <a:ext cx="11588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对象 27"/>
          <p:cNvGraphicFramePr/>
          <p:nvPr/>
        </p:nvGraphicFramePr>
        <p:xfrm>
          <a:off x="7413480" y="4443480"/>
          <a:ext cx="528840" cy="37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7" name="对象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13480" y="4443480"/>
                    <a:ext cx="5288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AutoShape 15"/>
          <p:cNvSpPr/>
          <p:nvPr/>
        </p:nvSpPr>
        <p:spPr>
          <a:xfrm>
            <a:off x="6659640" y="444348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16"/>
          <p:cNvSpPr/>
          <p:nvPr/>
        </p:nvSpPr>
        <p:spPr>
          <a:xfrm rot="16200000">
            <a:off x="7524720" y="4083120"/>
            <a:ext cx="432000" cy="28872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对象 27"/>
          <p:cNvGraphicFramePr/>
          <p:nvPr/>
        </p:nvGraphicFramePr>
        <p:xfrm>
          <a:off x="6597720" y="3651120"/>
          <a:ext cx="2361960" cy="37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1" name="对象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7720" y="3651120"/>
                    <a:ext cx="236196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7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2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图片 15" descr=""/>
          <p:cNvPicPr/>
          <p:nvPr/>
        </p:nvPicPr>
        <p:blipFill>
          <a:blip r:embed="rId1"/>
          <a:stretch/>
        </p:blipFill>
        <p:spPr>
          <a:xfrm>
            <a:off x="4572000" y="123840"/>
            <a:ext cx="2562120" cy="177156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19" descr=""/>
          <p:cNvPicPr/>
          <p:nvPr/>
        </p:nvPicPr>
        <p:blipFill>
          <a:blip r:embed="rId2"/>
          <a:stretch/>
        </p:blipFill>
        <p:spPr>
          <a:xfrm>
            <a:off x="1260360" y="411120"/>
            <a:ext cx="2038320" cy="15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对象 24"/>
          <p:cNvGraphicFramePr/>
          <p:nvPr/>
        </p:nvGraphicFramePr>
        <p:xfrm>
          <a:off x="2411280" y="3147840"/>
          <a:ext cx="2894040" cy="3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5" name="对象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147840"/>
                    <a:ext cx="28940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文本框 1"/>
          <p:cNvSpPr/>
          <p:nvPr/>
        </p:nvSpPr>
        <p:spPr>
          <a:xfrm>
            <a:off x="1343160" y="2427120"/>
            <a:ext cx="46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阶跃函数表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所示的脉冲电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文本框 2"/>
          <p:cNvSpPr/>
          <p:nvPr/>
        </p:nvSpPr>
        <p:spPr>
          <a:xfrm>
            <a:off x="466560" y="2066760"/>
            <a:ext cx="342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求阶跃响应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对象 6"/>
          <p:cNvGraphicFramePr/>
          <p:nvPr/>
        </p:nvGraphicFramePr>
        <p:xfrm>
          <a:off x="3819600" y="4156200"/>
          <a:ext cx="306072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对象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9600" y="4156200"/>
                    <a:ext cx="30607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0" name="图片 15" descr=""/>
          <p:cNvPicPr/>
          <p:nvPr/>
        </p:nvPicPr>
        <p:blipFill>
          <a:blip r:embed="rId3"/>
          <a:stretch/>
        </p:blipFill>
        <p:spPr>
          <a:xfrm>
            <a:off x="4572000" y="123840"/>
            <a:ext cx="2562120" cy="17715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19" descr=""/>
          <p:cNvPicPr/>
          <p:nvPr/>
        </p:nvPicPr>
        <p:blipFill>
          <a:blip r:embed="rId4"/>
          <a:stretch/>
        </p:blipFill>
        <p:spPr>
          <a:xfrm>
            <a:off x="1260360" y="411120"/>
            <a:ext cx="2038320" cy="15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2" name="对象 1"/>
          <p:cNvGraphicFramePr/>
          <p:nvPr/>
        </p:nvGraphicFramePr>
        <p:xfrm>
          <a:off x="3708360" y="2643120"/>
          <a:ext cx="193824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对象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2643120"/>
                    <a:ext cx="19382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对象 3"/>
          <p:cNvGraphicFramePr/>
          <p:nvPr/>
        </p:nvGraphicFramePr>
        <p:xfrm>
          <a:off x="6084720" y="2643120"/>
          <a:ext cx="116064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对象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2643120"/>
                    <a:ext cx="116064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对象 5"/>
          <p:cNvGraphicFramePr/>
          <p:nvPr/>
        </p:nvGraphicFramePr>
        <p:xfrm>
          <a:off x="3848040" y="3219480"/>
          <a:ext cx="125892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7" name="对象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8040" y="3219480"/>
                    <a:ext cx="12589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0"/>
          <p:cNvSpPr/>
          <p:nvPr/>
        </p:nvSpPr>
        <p:spPr>
          <a:xfrm>
            <a:off x="3697200" y="2066760"/>
            <a:ext cx="38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令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t)=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t)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=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三要素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文本框 2"/>
          <p:cNvSpPr/>
          <p:nvPr/>
        </p:nvSpPr>
        <p:spPr>
          <a:xfrm>
            <a:off x="1089360" y="482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电路的线性时不变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0" name="对象 6"/>
          <p:cNvGraphicFramePr/>
          <p:nvPr/>
        </p:nvGraphicFramePr>
        <p:xfrm>
          <a:off x="4538520" y="1131840"/>
          <a:ext cx="306252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对象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8520" y="1131840"/>
                    <a:ext cx="30625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对象 14"/>
          <p:cNvGraphicFramePr/>
          <p:nvPr/>
        </p:nvGraphicFramePr>
        <p:xfrm>
          <a:off x="539640" y="2428920"/>
          <a:ext cx="292752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3" name="对象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428920"/>
                    <a:ext cx="29275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4" name="组合 20"/>
          <p:cNvGrpSpPr/>
          <p:nvPr/>
        </p:nvGrpSpPr>
        <p:grpSpPr>
          <a:xfrm>
            <a:off x="2916360" y="915840"/>
            <a:ext cx="1441440" cy="1150920"/>
            <a:chOff x="2916360" y="915840"/>
            <a:chExt cx="1441440" cy="1150920"/>
          </a:xfrm>
        </p:grpSpPr>
        <p:sp>
          <p:nvSpPr>
            <p:cNvPr id="805" name="爆炸形 2 37"/>
            <p:cNvSpPr/>
            <p:nvPr/>
          </p:nvSpPr>
          <p:spPr>
            <a:xfrm>
              <a:off x="2916360" y="915840"/>
              <a:ext cx="1441440" cy="1150920"/>
            </a:xfrm>
            <a:prstGeom prst="irregularSeal2">
              <a:avLst/>
            </a:prstGeom>
            <a:noFill/>
            <a:ln w="19080">
              <a:solidFill>
                <a:srgbClr val="0070c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6" name="对象 29"/>
            <p:cNvGraphicFramePr/>
            <p:nvPr/>
          </p:nvGraphicFramePr>
          <p:xfrm>
            <a:off x="3184560" y="1237680"/>
            <a:ext cx="750960" cy="514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7" name="对象 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84560" y="1237680"/>
                      <a:ext cx="750960" cy="51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08" name="对象 21"/>
          <p:cNvGraphicFramePr/>
          <p:nvPr/>
        </p:nvGraphicFramePr>
        <p:xfrm>
          <a:off x="826920" y="1203480"/>
          <a:ext cx="65592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9" name="对象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1203480"/>
                    <a:ext cx="655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右箭头 31"/>
          <p:cNvSpPr/>
          <p:nvPr/>
        </p:nvSpPr>
        <p:spPr>
          <a:xfrm>
            <a:off x="1908000" y="1347840"/>
            <a:ext cx="432000" cy="182520"/>
          </a:xfrm>
          <a:prstGeom prst="rightArrow">
            <a:avLst>
              <a:gd name="adj1" fmla="val 50000"/>
              <a:gd name="adj2" fmla="val 50131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右箭头 32"/>
          <p:cNvSpPr/>
          <p:nvPr/>
        </p:nvSpPr>
        <p:spPr>
          <a:xfrm>
            <a:off x="3348000" y="2498760"/>
            <a:ext cx="432000" cy="183960"/>
          </a:xfrm>
          <a:prstGeom prst="rightArrow">
            <a:avLst>
              <a:gd name="adj1" fmla="val 50000"/>
              <a:gd name="adj2" fmla="val 49739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2" name="对象 33"/>
          <p:cNvGraphicFramePr/>
          <p:nvPr/>
        </p:nvGraphicFramePr>
        <p:xfrm>
          <a:off x="179280" y="3098880"/>
          <a:ext cx="364824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3" name="对象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3098880"/>
                    <a:ext cx="36482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对象 35"/>
          <p:cNvGraphicFramePr/>
          <p:nvPr/>
        </p:nvGraphicFramePr>
        <p:xfrm>
          <a:off x="1482840" y="3776760"/>
          <a:ext cx="5522760" cy="552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5" name="对象 3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82840" y="3776760"/>
                    <a:ext cx="55227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5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图片 15" descr=""/>
          <p:cNvPicPr/>
          <p:nvPr/>
        </p:nvPicPr>
        <p:blipFill>
          <a:blip r:embed="rId1"/>
          <a:stretch/>
        </p:blipFill>
        <p:spPr>
          <a:xfrm>
            <a:off x="4295880" y="1398600"/>
            <a:ext cx="2562120" cy="177156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19" descr=""/>
          <p:cNvPicPr/>
          <p:nvPr/>
        </p:nvPicPr>
        <p:blipFill>
          <a:blip r:embed="rId2"/>
          <a:stretch/>
        </p:blipFill>
        <p:spPr>
          <a:xfrm>
            <a:off x="1471680" y="1617840"/>
            <a:ext cx="2038320" cy="155232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93"/>
          <p:cNvSpPr/>
          <p:nvPr/>
        </p:nvSpPr>
        <p:spPr>
          <a:xfrm>
            <a:off x="184320" y="271440"/>
            <a:ext cx="8856360" cy="801720"/>
          </a:xfrm>
          <a:prstGeom prst="roundRect">
            <a:avLst>
              <a:gd name="adj" fmla="val 16301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文本框 6"/>
          <p:cNvSpPr/>
          <p:nvPr/>
        </p:nvSpPr>
        <p:spPr>
          <a:xfrm>
            <a:off x="363600" y="268200"/>
            <a:ext cx="8472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【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图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电路在图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脉冲电流作用下的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响应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已知               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0" name="对象 1"/>
          <p:cNvGraphicFramePr/>
          <p:nvPr/>
        </p:nvGraphicFramePr>
        <p:xfrm>
          <a:off x="1193760" y="650880"/>
          <a:ext cx="127944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1" name="对象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3760" y="650880"/>
                    <a:ext cx="1279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文本框 6"/>
          <p:cNvSpPr/>
          <p:nvPr/>
        </p:nvSpPr>
        <p:spPr>
          <a:xfrm>
            <a:off x="274680" y="3408480"/>
            <a:ext cx="8472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【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图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电路在图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脉冲电流作用下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状态响应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LZ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椭圆 5"/>
          <p:cNvSpPr/>
          <p:nvPr/>
        </p:nvSpPr>
        <p:spPr>
          <a:xfrm>
            <a:off x="1189080" y="520560"/>
            <a:ext cx="1263600" cy="7668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椭圆 6"/>
          <p:cNvSpPr/>
          <p:nvPr/>
        </p:nvSpPr>
        <p:spPr>
          <a:xfrm>
            <a:off x="1403280" y="3652920"/>
            <a:ext cx="952560" cy="7668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组合 14"/>
          <p:cNvGrpSpPr/>
          <p:nvPr/>
        </p:nvGrpSpPr>
        <p:grpSpPr>
          <a:xfrm>
            <a:off x="7372440" y="902880"/>
            <a:ext cx="1504800" cy="917640"/>
            <a:chOff x="7372440" y="902880"/>
            <a:chExt cx="1504800" cy="917640"/>
          </a:xfrm>
        </p:grpSpPr>
        <p:sp>
          <p:nvSpPr>
            <p:cNvPr id="826" name="圆角矩形标注 12"/>
            <p:cNvSpPr/>
            <p:nvPr/>
          </p:nvSpPr>
          <p:spPr>
            <a:xfrm rot="10740000">
              <a:off x="7380000" y="915480"/>
              <a:ext cx="1452960" cy="8924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文本框 13"/>
            <p:cNvSpPr/>
            <p:nvPr/>
          </p:nvSpPr>
          <p:spPr>
            <a:xfrm>
              <a:off x="7445520" y="114804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全响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组合 4"/>
          <p:cNvGrpSpPr/>
          <p:nvPr/>
        </p:nvGrpSpPr>
        <p:grpSpPr>
          <a:xfrm>
            <a:off x="2484360" y="4260960"/>
            <a:ext cx="2735280" cy="882720"/>
            <a:chOff x="2484360" y="4260960"/>
            <a:chExt cx="2735280" cy="882720"/>
          </a:xfrm>
        </p:grpSpPr>
        <p:sp>
          <p:nvSpPr>
            <p:cNvPr id="829" name="圆角矩形 29"/>
            <p:cNvSpPr/>
            <p:nvPr/>
          </p:nvSpPr>
          <p:spPr>
            <a:xfrm>
              <a:off x="2484360" y="4332600"/>
              <a:ext cx="2735280" cy="792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0" name="对象 21"/>
            <p:cNvGraphicFramePr/>
            <p:nvPr/>
          </p:nvGraphicFramePr>
          <p:xfrm>
            <a:off x="2843640" y="4260960"/>
            <a:ext cx="1077480" cy="403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1" name="对象 2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43640" y="4260960"/>
                      <a:ext cx="107748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2" name="对象 24"/>
            <p:cNvGraphicFramePr/>
            <p:nvPr/>
          </p:nvGraphicFramePr>
          <p:xfrm>
            <a:off x="2841840" y="4764600"/>
            <a:ext cx="2340360" cy="379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33" name="对象 2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1840" y="4764600"/>
                      <a:ext cx="2340360" cy="37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3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6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1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图片 15" descr=""/>
          <p:cNvPicPr/>
          <p:nvPr/>
        </p:nvPicPr>
        <p:blipFill>
          <a:blip r:embed="rId1"/>
          <a:stretch/>
        </p:blipFill>
        <p:spPr>
          <a:xfrm>
            <a:off x="4295880" y="968400"/>
            <a:ext cx="2562120" cy="177156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19" descr=""/>
          <p:cNvPicPr/>
          <p:nvPr/>
        </p:nvPicPr>
        <p:blipFill>
          <a:blip r:embed="rId2"/>
          <a:stretch/>
        </p:blipFill>
        <p:spPr>
          <a:xfrm>
            <a:off x="1476360" y="987480"/>
            <a:ext cx="2038320" cy="1552680"/>
          </a:xfrm>
          <a:prstGeom prst="rect">
            <a:avLst/>
          </a:prstGeom>
          <a:ln w="0">
            <a:noFill/>
          </a:ln>
        </p:spPr>
      </p:pic>
      <p:sp>
        <p:nvSpPr>
          <p:cNvPr id="836" name="文本框 20"/>
          <p:cNvSpPr/>
          <p:nvPr/>
        </p:nvSpPr>
        <p:spPr>
          <a:xfrm>
            <a:off x="2916360" y="271620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状态响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LZ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组合 4"/>
          <p:cNvGrpSpPr/>
          <p:nvPr/>
        </p:nvGrpSpPr>
        <p:grpSpPr>
          <a:xfrm>
            <a:off x="2773440" y="3294000"/>
            <a:ext cx="2735280" cy="882720"/>
            <a:chOff x="2773440" y="3294000"/>
            <a:chExt cx="2735280" cy="882720"/>
          </a:xfrm>
        </p:grpSpPr>
        <p:sp>
          <p:nvSpPr>
            <p:cNvPr id="838" name="圆角矩形 29"/>
            <p:cNvSpPr/>
            <p:nvPr/>
          </p:nvSpPr>
          <p:spPr>
            <a:xfrm>
              <a:off x="2773440" y="3365640"/>
              <a:ext cx="2735280" cy="792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9" name="对象 21"/>
            <p:cNvGraphicFramePr/>
            <p:nvPr/>
          </p:nvGraphicFramePr>
          <p:xfrm>
            <a:off x="3132720" y="3294000"/>
            <a:ext cx="1077480" cy="403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0" name="对象 2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2720" y="3294000"/>
                      <a:ext cx="107748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1" name="对象 24"/>
            <p:cNvGraphicFramePr/>
            <p:nvPr/>
          </p:nvGraphicFramePr>
          <p:xfrm>
            <a:off x="3130920" y="3797640"/>
            <a:ext cx="2340360" cy="37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2" name="对象 2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30920" y="3797640"/>
                      <a:ext cx="2340360" cy="37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3" name="文本框 22"/>
          <p:cNvSpPr/>
          <p:nvPr/>
        </p:nvSpPr>
        <p:spPr>
          <a:xfrm>
            <a:off x="508320" y="26668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全响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93"/>
          <p:cNvSpPr/>
          <p:nvPr/>
        </p:nvSpPr>
        <p:spPr>
          <a:xfrm>
            <a:off x="184320" y="271440"/>
            <a:ext cx="8856360" cy="801720"/>
          </a:xfrm>
          <a:prstGeom prst="roundRect">
            <a:avLst>
              <a:gd name="adj" fmla="val 16301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文本框 6"/>
          <p:cNvSpPr/>
          <p:nvPr/>
        </p:nvSpPr>
        <p:spPr>
          <a:xfrm>
            <a:off x="363600" y="268200"/>
            <a:ext cx="8472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【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图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电路在图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脉冲电流作用下的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响应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已知             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6" name="对象 1"/>
          <p:cNvGraphicFramePr/>
          <p:nvPr/>
        </p:nvGraphicFramePr>
        <p:xfrm>
          <a:off x="1116000" y="671400"/>
          <a:ext cx="125424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对象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671400"/>
                    <a:ext cx="12542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文本框 8"/>
          <p:cNvSpPr/>
          <p:nvPr/>
        </p:nvSpPr>
        <p:spPr>
          <a:xfrm>
            <a:off x="5940360" y="2716200"/>
            <a:ext cx="25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输入响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LZ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Group 23"/>
          <p:cNvGrpSpPr/>
          <p:nvPr/>
        </p:nvGrpSpPr>
        <p:grpSpPr>
          <a:xfrm>
            <a:off x="6300720" y="3365640"/>
            <a:ext cx="1655640" cy="739800"/>
            <a:chOff x="6300720" y="3365640"/>
            <a:chExt cx="1655640" cy="739800"/>
          </a:xfrm>
        </p:grpSpPr>
        <p:graphicFrame>
          <p:nvGraphicFramePr>
            <p:cNvPr id="850" name="对象 21"/>
            <p:cNvGraphicFramePr/>
            <p:nvPr/>
          </p:nvGraphicFramePr>
          <p:xfrm>
            <a:off x="6489360" y="3365640"/>
            <a:ext cx="1279800" cy="403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51" name="对象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89360" y="3365640"/>
                      <a:ext cx="127980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2" name="对象 24"/>
            <p:cNvGraphicFramePr/>
            <p:nvPr/>
          </p:nvGraphicFramePr>
          <p:xfrm>
            <a:off x="6516360" y="3726000"/>
            <a:ext cx="905040" cy="37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53" name="对象 2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16360" y="3726000"/>
                      <a:ext cx="90504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AutoShape 22"/>
            <p:cNvSpPr/>
            <p:nvPr/>
          </p:nvSpPr>
          <p:spPr>
            <a:xfrm>
              <a:off x="6300720" y="3365640"/>
              <a:ext cx="1655640" cy="720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6"/>
          <p:cNvGrpSpPr/>
          <p:nvPr/>
        </p:nvGrpSpPr>
        <p:grpSpPr>
          <a:xfrm>
            <a:off x="396720" y="3294000"/>
            <a:ext cx="2038320" cy="792000"/>
            <a:chOff x="396720" y="3294000"/>
            <a:chExt cx="2038320" cy="792000"/>
          </a:xfrm>
        </p:grpSpPr>
        <p:sp>
          <p:nvSpPr>
            <p:cNvPr id="856" name="圆角矩形 30"/>
            <p:cNvSpPr/>
            <p:nvPr/>
          </p:nvSpPr>
          <p:spPr>
            <a:xfrm>
              <a:off x="396720" y="3294000"/>
              <a:ext cx="2038320" cy="792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7" name="对象 5"/>
            <p:cNvGraphicFramePr/>
            <p:nvPr/>
          </p:nvGraphicFramePr>
          <p:xfrm>
            <a:off x="561600" y="3655800"/>
            <a:ext cx="1744560" cy="376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58" name="对象 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61600" y="3655800"/>
                      <a:ext cx="174456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9" name="对象 1"/>
            <p:cNvGraphicFramePr/>
            <p:nvPr/>
          </p:nvGraphicFramePr>
          <p:xfrm>
            <a:off x="550440" y="3295440"/>
            <a:ext cx="1276560" cy="401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60" name="对象 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0440" y="3295440"/>
                      <a:ext cx="127656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1" name="Text Box 28"/>
          <p:cNvSpPr/>
          <p:nvPr/>
        </p:nvSpPr>
        <p:spPr>
          <a:xfrm>
            <a:off x="5510160" y="26431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1"/>
          <p:cNvSpPr/>
          <p:nvPr/>
        </p:nvSpPr>
        <p:spPr>
          <a:xfrm>
            <a:off x="2557440" y="2619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文本框 6"/>
          <p:cNvSpPr/>
          <p:nvPr/>
        </p:nvSpPr>
        <p:spPr>
          <a:xfrm>
            <a:off x="179280" y="4300560"/>
            <a:ext cx="8472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【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图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电路在图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脉冲电流作用下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状态响应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LZS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（例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1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2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的零输入响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LZ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文本框 2"/>
          <p:cNvSpPr/>
          <p:nvPr/>
        </p:nvSpPr>
        <p:spPr>
          <a:xfrm>
            <a:off x="466560" y="2066760"/>
            <a:ext cx="37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输入响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LZ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5" name="对象 6"/>
          <p:cNvGraphicFramePr/>
          <p:nvPr/>
        </p:nvGraphicFramePr>
        <p:xfrm>
          <a:off x="3995640" y="3940200"/>
          <a:ext cx="338004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6" name="对象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3940200"/>
                    <a:ext cx="33800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7" name="图片 15" descr=""/>
          <p:cNvPicPr/>
          <p:nvPr/>
        </p:nvPicPr>
        <p:blipFill>
          <a:blip r:embed="rId3"/>
          <a:stretch/>
        </p:blipFill>
        <p:spPr>
          <a:xfrm>
            <a:off x="4572000" y="123840"/>
            <a:ext cx="2562120" cy="1771560"/>
          </a:xfrm>
          <a:prstGeom prst="rect">
            <a:avLst/>
          </a:prstGeom>
          <a:ln w="0">
            <a:noFill/>
          </a:ln>
        </p:spPr>
      </p:pic>
      <p:pic>
        <p:nvPicPr>
          <p:cNvPr id="868" name="图片 19" descr=""/>
          <p:cNvPicPr/>
          <p:nvPr/>
        </p:nvPicPr>
        <p:blipFill>
          <a:blip r:embed="rId4"/>
          <a:stretch/>
        </p:blipFill>
        <p:spPr>
          <a:xfrm>
            <a:off x="1260360" y="411120"/>
            <a:ext cx="2038320" cy="15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9" name="对象 1"/>
          <p:cNvGraphicFramePr/>
          <p:nvPr/>
        </p:nvGraphicFramePr>
        <p:xfrm>
          <a:off x="3635280" y="2643120"/>
          <a:ext cx="214164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0" name="对象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5280" y="2643120"/>
                    <a:ext cx="21416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对象 3"/>
          <p:cNvGraphicFramePr/>
          <p:nvPr/>
        </p:nvGraphicFramePr>
        <p:xfrm>
          <a:off x="6084720" y="2643120"/>
          <a:ext cx="121140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2" name="对象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2643120"/>
                    <a:ext cx="12114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对象 5"/>
          <p:cNvGraphicFramePr/>
          <p:nvPr/>
        </p:nvGraphicFramePr>
        <p:xfrm>
          <a:off x="3780000" y="3076560"/>
          <a:ext cx="125712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4" name="对象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3076560"/>
                    <a:ext cx="12571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Text Box 9"/>
          <p:cNvSpPr/>
          <p:nvPr/>
        </p:nvSpPr>
        <p:spPr>
          <a:xfrm>
            <a:off x="4065480" y="2066760"/>
            <a:ext cx="439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令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t)=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2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三要素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文本框 2"/>
          <p:cNvSpPr/>
          <p:nvPr/>
        </p:nvSpPr>
        <p:spPr>
          <a:xfrm>
            <a:off x="1197360" y="482760"/>
            <a:ext cx="362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得到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状态响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LZ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7" name="对象 35"/>
          <p:cNvGraphicFramePr/>
          <p:nvPr/>
        </p:nvGraphicFramePr>
        <p:xfrm>
          <a:off x="539640" y="1265400"/>
          <a:ext cx="642168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对象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5400"/>
                    <a:ext cx="64216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文本框 1"/>
          <p:cNvSpPr/>
          <p:nvPr/>
        </p:nvSpPr>
        <p:spPr>
          <a:xfrm>
            <a:off x="753840" y="22129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响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0" name="对象 4"/>
          <p:cNvGraphicFramePr/>
          <p:nvPr/>
        </p:nvGraphicFramePr>
        <p:xfrm>
          <a:off x="682560" y="3003480"/>
          <a:ext cx="283068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对象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2560" y="3003480"/>
                    <a:ext cx="28306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对象 7"/>
          <p:cNvGraphicFramePr/>
          <p:nvPr/>
        </p:nvGraphicFramePr>
        <p:xfrm>
          <a:off x="1258920" y="3868560"/>
          <a:ext cx="7802640" cy="55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对象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3868560"/>
                    <a:ext cx="78026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椭圆 9"/>
          <p:cNvSpPr/>
          <p:nvPr/>
        </p:nvSpPr>
        <p:spPr>
          <a:xfrm>
            <a:off x="1547640" y="3795840"/>
            <a:ext cx="749520" cy="6555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椭圆 10"/>
          <p:cNvSpPr/>
          <p:nvPr/>
        </p:nvSpPr>
        <p:spPr>
          <a:xfrm>
            <a:off x="8172360" y="3724200"/>
            <a:ext cx="952560" cy="7686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0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5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BJ_020"/>
          <p:cNvPicPr/>
          <p:nvPr/>
        </p:nvPicPr>
        <p:blipFill>
          <a:blip r:embed="rId1"/>
          <a:stretch/>
        </p:blipFill>
        <p:spPr>
          <a:xfrm>
            <a:off x="1428840" y="428760"/>
            <a:ext cx="6286320" cy="4643280"/>
          </a:xfrm>
          <a:prstGeom prst="rect">
            <a:avLst/>
          </a:prstGeom>
          <a:ln w="0">
            <a:noFill/>
          </a:ln>
        </p:spPr>
      </p:pic>
      <p:pic>
        <p:nvPicPr>
          <p:cNvPr id="887" name="矩形 14" descr=""/>
          <p:cNvPicPr/>
          <p:nvPr/>
        </p:nvPicPr>
        <p:blipFill>
          <a:blip r:embed="rId2"/>
          <a:stretch/>
        </p:blipFill>
        <p:spPr>
          <a:xfrm>
            <a:off x="2359080" y="1859040"/>
            <a:ext cx="454176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矩形 13"/>
          <p:cNvSpPr/>
          <p:nvPr/>
        </p:nvSpPr>
        <p:spPr>
          <a:xfrm>
            <a:off x="344520" y="339840"/>
            <a:ext cx="42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阶跃信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图片 2" descr=""/>
          <p:cNvPicPr/>
          <p:nvPr/>
        </p:nvPicPr>
        <p:blipFill>
          <a:blip r:embed="rId1"/>
          <a:stretch/>
        </p:blipFill>
        <p:spPr>
          <a:xfrm>
            <a:off x="5724360" y="650880"/>
            <a:ext cx="2257560" cy="134604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19" descr=""/>
          <p:cNvPicPr/>
          <p:nvPr/>
        </p:nvPicPr>
        <p:blipFill>
          <a:blip r:embed="rId2"/>
          <a:stretch/>
        </p:blipFill>
        <p:spPr>
          <a:xfrm>
            <a:off x="5676840" y="2771640"/>
            <a:ext cx="2238480" cy="146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9" name="对象 20"/>
          <p:cNvGraphicFramePr/>
          <p:nvPr/>
        </p:nvGraphicFramePr>
        <p:xfrm>
          <a:off x="2916360" y="987480"/>
          <a:ext cx="204156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0" name="对象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987480"/>
                    <a:ext cx="204156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文本框 22"/>
          <p:cNvSpPr/>
          <p:nvPr/>
        </p:nvSpPr>
        <p:spPr>
          <a:xfrm>
            <a:off x="906120" y="1131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位阶跃信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2" name="对象 23"/>
          <p:cNvGraphicFramePr/>
          <p:nvPr/>
        </p:nvGraphicFramePr>
        <p:xfrm>
          <a:off x="2916360" y="3219480"/>
          <a:ext cx="2436840" cy="72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3" name="对象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3219480"/>
                    <a:ext cx="24368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文本框 24"/>
          <p:cNvSpPr/>
          <p:nvPr/>
        </p:nvSpPr>
        <p:spPr>
          <a:xfrm>
            <a:off x="1028160" y="2427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延迟单位阶跃信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椭圆 25"/>
          <p:cNvSpPr/>
          <p:nvPr/>
        </p:nvSpPr>
        <p:spPr>
          <a:xfrm>
            <a:off x="6060960" y="1700280"/>
            <a:ext cx="76320" cy="745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椭圆 26"/>
          <p:cNvSpPr/>
          <p:nvPr/>
        </p:nvSpPr>
        <p:spPr>
          <a:xfrm>
            <a:off x="6448320" y="3968640"/>
            <a:ext cx="76320" cy="763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直接连接符 3"/>
          <p:cNvSpPr/>
          <p:nvPr/>
        </p:nvSpPr>
        <p:spPr>
          <a:xfrm flipV="1">
            <a:off x="5597640" y="1723680"/>
            <a:ext cx="463320" cy="11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直接连接符 4"/>
          <p:cNvSpPr/>
          <p:nvPr/>
        </p:nvSpPr>
        <p:spPr>
          <a:xfrm flipV="1">
            <a:off x="6010200" y="3984120"/>
            <a:ext cx="465120" cy="11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直接连接符 9"/>
          <p:cNvSpPr/>
          <p:nvPr/>
        </p:nvSpPr>
        <p:spPr>
          <a:xfrm>
            <a:off x="6105600" y="1265400"/>
            <a:ext cx="151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直接连接符 10"/>
          <p:cNvSpPr/>
          <p:nvPr/>
        </p:nvSpPr>
        <p:spPr>
          <a:xfrm>
            <a:off x="6489720" y="3535200"/>
            <a:ext cx="151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文本框 22"/>
          <p:cNvSpPr/>
          <p:nvPr/>
        </p:nvSpPr>
        <p:spPr>
          <a:xfrm>
            <a:off x="395280" y="5554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跃函数用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文本框 24"/>
          <p:cNvSpPr/>
          <p:nvPr/>
        </p:nvSpPr>
        <p:spPr>
          <a:xfrm>
            <a:off x="3288600" y="555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描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开关动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图片 27" descr=""/>
          <p:cNvPicPr/>
          <p:nvPr/>
        </p:nvPicPr>
        <p:blipFill>
          <a:blip r:embed="rId1"/>
          <a:stretch/>
        </p:blipFill>
        <p:spPr>
          <a:xfrm>
            <a:off x="1187280" y="1131840"/>
            <a:ext cx="2122560" cy="175896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29" descr=""/>
          <p:cNvPicPr/>
          <p:nvPr/>
        </p:nvPicPr>
        <p:blipFill>
          <a:blip r:embed="rId2"/>
          <a:stretch/>
        </p:blipFill>
        <p:spPr>
          <a:xfrm>
            <a:off x="1044720" y="2824200"/>
            <a:ext cx="2143080" cy="1790640"/>
          </a:xfrm>
          <a:prstGeom prst="rect">
            <a:avLst/>
          </a:prstGeom>
          <a:ln w="0">
            <a:noFill/>
          </a:ln>
        </p:spPr>
      </p:pic>
      <p:sp>
        <p:nvSpPr>
          <p:cNvPr id="615" name="燕尾形 31"/>
          <p:cNvSpPr/>
          <p:nvPr/>
        </p:nvSpPr>
        <p:spPr>
          <a:xfrm>
            <a:off x="4067280" y="1735200"/>
            <a:ext cx="431640" cy="261720"/>
          </a:xfrm>
          <a:custGeom>
            <a:avLst/>
            <a:gdLst>
              <a:gd name="textAreaLeft" fmla="*/ 0 w 431640"/>
              <a:gd name="textAreaRight" fmla="*/ 432000 w 4316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65" y="0"/>
                </a:lnTo>
                <a:lnTo>
                  <a:pt x="21600" y="10800"/>
                </a:lnTo>
                <a:lnTo>
                  <a:pt x="15065" y="21600"/>
                </a:lnTo>
                <a:lnTo>
                  <a:pt x="0" y="21600"/>
                </a:lnTo>
                <a:lnTo>
                  <a:pt x="6535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燕尾形 32"/>
          <p:cNvSpPr/>
          <p:nvPr/>
        </p:nvSpPr>
        <p:spPr>
          <a:xfrm>
            <a:off x="4051440" y="3511440"/>
            <a:ext cx="431640" cy="262080"/>
          </a:xfrm>
          <a:custGeom>
            <a:avLst/>
            <a:gdLst>
              <a:gd name="textAreaLeft" fmla="*/ 0 w 431640"/>
              <a:gd name="textAreaRight" fmla="*/ 432000 w 431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65" y="0"/>
                </a:lnTo>
                <a:lnTo>
                  <a:pt x="21600" y="10800"/>
                </a:lnTo>
                <a:lnTo>
                  <a:pt x="15065" y="21600"/>
                </a:lnTo>
                <a:lnTo>
                  <a:pt x="0" y="21600"/>
                </a:lnTo>
                <a:lnTo>
                  <a:pt x="6535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组合 4"/>
          <p:cNvGrpSpPr/>
          <p:nvPr/>
        </p:nvGrpSpPr>
        <p:grpSpPr>
          <a:xfrm>
            <a:off x="5508720" y="1058760"/>
            <a:ext cx="2181240" cy="1594080"/>
            <a:chOff x="5508720" y="1058760"/>
            <a:chExt cx="2181240" cy="1594080"/>
          </a:xfrm>
        </p:grpSpPr>
        <p:pic>
          <p:nvPicPr>
            <p:cNvPr id="618" name="图片 1" descr=""/>
            <p:cNvPicPr/>
            <p:nvPr/>
          </p:nvPicPr>
          <p:blipFill>
            <a:blip r:embed="rId3"/>
            <a:stretch/>
          </p:blipFill>
          <p:spPr>
            <a:xfrm>
              <a:off x="5739840" y="1058760"/>
              <a:ext cx="1950120" cy="15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2"/>
            <p:cNvSpPr/>
            <p:nvPr/>
          </p:nvSpPr>
          <p:spPr>
            <a:xfrm>
              <a:off x="5508720" y="1701000"/>
              <a:ext cx="576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椭圆 34"/>
          <p:cNvSpPr/>
          <p:nvPr/>
        </p:nvSpPr>
        <p:spPr>
          <a:xfrm>
            <a:off x="5292720" y="1347840"/>
            <a:ext cx="1015920" cy="102384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组合 5"/>
          <p:cNvGrpSpPr/>
          <p:nvPr/>
        </p:nvGrpSpPr>
        <p:grpSpPr>
          <a:xfrm>
            <a:off x="5364000" y="2787480"/>
            <a:ext cx="2382840" cy="1741680"/>
            <a:chOff x="5364000" y="2787480"/>
            <a:chExt cx="2382840" cy="1741680"/>
          </a:xfrm>
        </p:grpSpPr>
        <p:grpSp>
          <p:nvGrpSpPr>
            <p:cNvPr id="622" name="组合 3"/>
            <p:cNvGrpSpPr/>
            <p:nvPr/>
          </p:nvGrpSpPr>
          <p:grpSpPr>
            <a:xfrm>
              <a:off x="6264720" y="2787480"/>
              <a:ext cx="1482120" cy="1741680"/>
              <a:chOff x="6264720" y="2787480"/>
              <a:chExt cx="1482120" cy="1741680"/>
            </a:xfrm>
          </p:grpSpPr>
          <p:pic>
            <p:nvPicPr>
              <p:cNvPr id="623" name="图片 2" descr=""/>
              <p:cNvPicPr/>
              <p:nvPr/>
            </p:nvPicPr>
            <p:blipFill>
              <a:blip r:embed="rId4"/>
              <a:stretch/>
            </p:blipFill>
            <p:spPr>
              <a:xfrm>
                <a:off x="6264720" y="2787480"/>
                <a:ext cx="1482120" cy="174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圆角矩形 6"/>
              <p:cNvSpPr/>
              <p:nvPr/>
            </p:nvSpPr>
            <p:spPr>
              <a:xfrm>
                <a:off x="6523200" y="3920040"/>
                <a:ext cx="482400" cy="261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圆角矩形 7"/>
              <p:cNvSpPr/>
              <p:nvPr/>
            </p:nvSpPr>
            <p:spPr>
              <a:xfrm>
                <a:off x="6764400" y="3624480"/>
                <a:ext cx="241200" cy="295200"/>
              </a:xfrm>
              <a:custGeom>
                <a:avLst/>
                <a:gdLst>
                  <a:gd name="textAreaLeft" fmla="*/ 11520 w 241200"/>
                  <a:gd name="textAreaRight" fmla="*/ 229680 w 241200"/>
                  <a:gd name="textAreaTop" fmla="*/ 11520 h 295200"/>
                  <a:gd name="textAreaBottom" fmla="*/ 283680 h 295200"/>
                </a:gdLst>
                <a:ahLst/>
                <a:rect l="textAreaLeft" t="textAreaTop" r="textAreaRight" b="textAreaBottom"/>
                <a:pathLst>
                  <a:path w="21600" h="26429">
                    <a:moveTo>
                      <a:pt x="3600" y="0"/>
                    </a:moveTo>
                    <a:arcTo wR="3600" hR="3600" stAng="16200000" swAng="-5400000"/>
                    <a:lnTo>
                      <a:pt x="0" y="22829"/>
                    </a:lnTo>
                    <a:arcTo wR="3600" hR="3600" stAng="10800000" swAng="-5400000"/>
                    <a:lnTo>
                      <a:pt x="18000" y="26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Text Box 12"/>
            <p:cNvSpPr/>
            <p:nvPr/>
          </p:nvSpPr>
          <p:spPr>
            <a:xfrm>
              <a:off x="5364000" y="3498840"/>
              <a:ext cx="1014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t-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)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椭圆 8"/>
          <p:cNvSpPr/>
          <p:nvPr/>
        </p:nvSpPr>
        <p:spPr>
          <a:xfrm>
            <a:off x="4932360" y="3219480"/>
            <a:ext cx="1382760" cy="102384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文本框 22"/>
          <p:cNvSpPr/>
          <p:nvPr/>
        </p:nvSpPr>
        <p:spPr>
          <a:xfrm>
            <a:off x="761760" y="555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阶跃函数用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文本框 24"/>
          <p:cNvSpPr/>
          <p:nvPr/>
        </p:nvSpPr>
        <p:spPr>
          <a:xfrm>
            <a:off x="2556000" y="5554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描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各种信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图片 4" descr=""/>
          <p:cNvPicPr/>
          <p:nvPr/>
        </p:nvPicPr>
        <p:blipFill>
          <a:blip r:embed="rId1"/>
          <a:stretch/>
        </p:blipFill>
        <p:spPr>
          <a:xfrm>
            <a:off x="169920" y="1422360"/>
            <a:ext cx="1771560" cy="121932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5" descr=""/>
          <p:cNvPicPr/>
          <p:nvPr/>
        </p:nvPicPr>
        <p:blipFill>
          <a:blip r:embed="rId2"/>
          <a:stretch/>
        </p:blipFill>
        <p:spPr>
          <a:xfrm>
            <a:off x="3203640" y="1419120"/>
            <a:ext cx="1704960" cy="124776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9" descr=""/>
          <p:cNvPicPr/>
          <p:nvPr/>
        </p:nvPicPr>
        <p:blipFill>
          <a:blip r:embed="rId3"/>
          <a:stretch/>
        </p:blipFill>
        <p:spPr>
          <a:xfrm>
            <a:off x="6026040" y="142236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33" name="文本框 10"/>
          <p:cNvSpPr/>
          <p:nvPr/>
        </p:nvSpPr>
        <p:spPr>
          <a:xfrm>
            <a:off x="2196360" y="18511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文本框 12"/>
          <p:cNvSpPr/>
          <p:nvPr/>
        </p:nvSpPr>
        <p:spPr>
          <a:xfrm>
            <a:off x="5220360" y="17794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对象 17"/>
          <p:cNvGraphicFramePr/>
          <p:nvPr/>
        </p:nvGraphicFramePr>
        <p:xfrm>
          <a:off x="2344680" y="3581280"/>
          <a:ext cx="3332160" cy="46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6" name="对象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4680" y="3581280"/>
                    <a:ext cx="33321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上下箭头 18"/>
          <p:cNvSpPr/>
          <p:nvPr/>
        </p:nvSpPr>
        <p:spPr>
          <a:xfrm>
            <a:off x="3708360" y="2716200"/>
            <a:ext cx="227160" cy="608040"/>
          </a:xfrm>
          <a:prstGeom prst="upDownArrow">
            <a:avLst>
              <a:gd name="adj1" fmla="val 50000"/>
              <a:gd name="adj2" fmla="val 49965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直角双向箭头 19"/>
          <p:cNvSpPr/>
          <p:nvPr/>
        </p:nvSpPr>
        <p:spPr>
          <a:xfrm>
            <a:off x="6299280" y="2643120"/>
            <a:ext cx="431640" cy="1224000"/>
          </a:xfrm>
          <a:custGeom>
            <a:avLst/>
            <a:gdLst/>
            <a:ahLst/>
            <a:rect l="l" t="t" r="r" b="b"/>
            <a:pathLst>
              <a:path w="432435" h="1224280">
                <a:moveTo>
                  <a:pt x="0" y="1116171"/>
                </a:moveTo>
                <a:lnTo>
                  <a:pt x="108108" y="1008062"/>
                </a:lnTo>
                <a:lnTo>
                  <a:pt x="108108" y="1062116"/>
                </a:lnTo>
                <a:lnTo>
                  <a:pt x="270271" y="1062116"/>
                </a:lnTo>
                <a:lnTo>
                  <a:pt x="270271" y="108108"/>
                </a:lnTo>
                <a:lnTo>
                  <a:pt x="216217" y="108108"/>
                </a:lnTo>
                <a:lnTo>
                  <a:pt x="324326" y="0"/>
                </a:lnTo>
                <a:lnTo>
                  <a:pt x="432435" y="108108"/>
                </a:lnTo>
                <a:lnTo>
                  <a:pt x="378380" y="108108"/>
                </a:lnTo>
                <a:lnTo>
                  <a:pt x="378380" y="1170225"/>
                </a:lnTo>
                <a:lnTo>
                  <a:pt x="108108" y="1170225"/>
                </a:lnTo>
                <a:lnTo>
                  <a:pt x="108108" y="1224280"/>
                </a:lnTo>
                <a:lnTo>
                  <a:pt x="0" y="11161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灯片编号占位符 10"/>
          <p:cNvSpPr/>
          <p:nvPr/>
        </p:nvSpPr>
        <p:spPr>
          <a:xfrm>
            <a:off x="6458040" y="50641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0DCA-B2F0-40EC-BEB0-A4D9A27FA8D1}" type="slidenum"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图片 2" descr=""/>
          <p:cNvPicPr/>
          <p:nvPr/>
        </p:nvPicPr>
        <p:blipFill>
          <a:blip r:embed="rId1"/>
          <a:stretch/>
        </p:blipFill>
        <p:spPr>
          <a:xfrm>
            <a:off x="657360" y="412920"/>
            <a:ext cx="2305080" cy="153180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6" descr=""/>
          <p:cNvPicPr/>
          <p:nvPr/>
        </p:nvPicPr>
        <p:blipFill>
          <a:blip r:embed="rId2"/>
          <a:stretch/>
        </p:blipFill>
        <p:spPr>
          <a:xfrm>
            <a:off x="657360" y="1995480"/>
            <a:ext cx="1909800" cy="1346040"/>
          </a:xfrm>
          <a:prstGeom prst="rect">
            <a:avLst/>
          </a:prstGeom>
          <a:ln w="0">
            <a:noFill/>
          </a:ln>
        </p:spPr>
      </p:pic>
      <p:sp>
        <p:nvSpPr>
          <p:cNvPr id="642" name="燕尾形箭头 8"/>
          <p:cNvSpPr/>
          <p:nvPr/>
        </p:nvSpPr>
        <p:spPr>
          <a:xfrm>
            <a:off x="3246480" y="985680"/>
            <a:ext cx="303120" cy="290520"/>
          </a:xfrm>
          <a:custGeom>
            <a:avLst/>
            <a:gdLst>
              <a:gd name="textAreaLeft" fmla="*/ 72000 w 303120"/>
              <a:gd name="textAreaRight" fmla="*/ 231120 w 30312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306" y="5400"/>
                </a:lnTo>
                <a:lnTo>
                  <a:pt x="11306" y="0"/>
                </a:lnTo>
                <a:lnTo>
                  <a:pt x="21600" y="10800"/>
                </a:lnTo>
                <a:lnTo>
                  <a:pt x="11306" y="21600"/>
                </a:lnTo>
                <a:lnTo>
                  <a:pt x="11306" y="16200"/>
                </a:lnTo>
                <a:lnTo>
                  <a:pt x="0" y="16200"/>
                </a:lnTo>
                <a:lnTo>
                  <a:pt x="51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燕尾形箭头 9"/>
          <p:cNvSpPr/>
          <p:nvPr/>
        </p:nvSpPr>
        <p:spPr>
          <a:xfrm>
            <a:off x="3246480" y="2644920"/>
            <a:ext cx="303120" cy="288720"/>
          </a:xfrm>
          <a:custGeom>
            <a:avLst/>
            <a:gdLst>
              <a:gd name="textAreaLeft" fmla="*/ 72000 w 303120"/>
              <a:gd name="textAreaRight" fmla="*/ 231120 w 3031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306" y="5400"/>
                </a:lnTo>
                <a:lnTo>
                  <a:pt x="11306" y="0"/>
                </a:lnTo>
                <a:lnTo>
                  <a:pt x="21600" y="10800"/>
                </a:lnTo>
                <a:lnTo>
                  <a:pt x="11306" y="21600"/>
                </a:lnTo>
                <a:lnTo>
                  <a:pt x="11306" y="16200"/>
                </a:lnTo>
                <a:lnTo>
                  <a:pt x="0" y="16200"/>
                </a:lnTo>
                <a:lnTo>
                  <a:pt x="51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4" name="对象 13"/>
          <p:cNvGraphicFramePr/>
          <p:nvPr/>
        </p:nvGraphicFramePr>
        <p:xfrm>
          <a:off x="4572000" y="892080"/>
          <a:ext cx="3224160" cy="3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5" name="对象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892080"/>
                    <a:ext cx="322416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对象 14"/>
          <p:cNvGraphicFramePr/>
          <p:nvPr/>
        </p:nvGraphicFramePr>
        <p:xfrm>
          <a:off x="4572000" y="2500200"/>
          <a:ext cx="236376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7" name="对象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500200"/>
                    <a:ext cx="236376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椭圆 18"/>
          <p:cNvSpPr/>
          <p:nvPr/>
        </p:nvSpPr>
        <p:spPr>
          <a:xfrm>
            <a:off x="1417680" y="1563840"/>
            <a:ext cx="74520" cy="759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椭圆 19"/>
          <p:cNvSpPr/>
          <p:nvPr/>
        </p:nvSpPr>
        <p:spPr>
          <a:xfrm>
            <a:off x="1844640" y="1573200"/>
            <a:ext cx="74520" cy="763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椭圆 20"/>
          <p:cNvSpPr/>
          <p:nvPr/>
        </p:nvSpPr>
        <p:spPr>
          <a:xfrm>
            <a:off x="993600" y="1573200"/>
            <a:ext cx="76320" cy="763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直接连接符 31"/>
          <p:cNvSpPr/>
          <p:nvPr/>
        </p:nvSpPr>
        <p:spPr>
          <a:xfrm flipV="1">
            <a:off x="612720" y="2427120"/>
            <a:ext cx="934920" cy="104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26" descr="ZM7(W[T1N0%JN@4LNIT8RCM"/>
          <p:cNvPicPr/>
          <p:nvPr/>
        </p:nvPicPr>
        <p:blipFill>
          <a:blip r:embed="rId7"/>
          <a:stretch/>
        </p:blipFill>
        <p:spPr>
          <a:xfrm>
            <a:off x="900000" y="3579840"/>
            <a:ext cx="1611360" cy="130824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25"/>
          <p:cNvSpPr/>
          <p:nvPr/>
        </p:nvSpPr>
        <p:spPr>
          <a:xfrm>
            <a:off x="3317760" y="4103640"/>
            <a:ext cx="331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= -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+3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)-2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文本框 1"/>
          <p:cNvSpPr/>
          <p:nvPr/>
        </p:nvSpPr>
        <p:spPr>
          <a:xfrm>
            <a:off x="744120" y="33984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阶跃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组合 1"/>
          <p:cNvGrpSpPr/>
          <p:nvPr/>
        </p:nvGrpSpPr>
        <p:grpSpPr>
          <a:xfrm>
            <a:off x="71280" y="770040"/>
            <a:ext cx="7454880" cy="520560"/>
            <a:chOff x="71280" y="770040"/>
            <a:chExt cx="7454880" cy="520560"/>
          </a:xfrm>
        </p:grpSpPr>
        <p:sp>
          <p:nvSpPr>
            <p:cNvPr id="656" name="文本框 3"/>
            <p:cNvSpPr/>
            <p:nvPr/>
          </p:nvSpPr>
          <p:spPr>
            <a:xfrm>
              <a:off x="71280" y="77004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单位阶跃响应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s(t)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文本框 8"/>
            <p:cNvSpPr/>
            <p:nvPr/>
          </p:nvSpPr>
          <p:spPr>
            <a:xfrm>
              <a:off x="4818600" y="7952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宋体"/>
                </a:rPr>
                <a:t>零状态时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电路在</a:t>
              </a:r>
              <a:r>
                <a:rPr b="1" lang="zh-CN" sz="2400" spc="-1" strike="noStrike">
                  <a:solidFill>
                    <a:srgbClr val="3333ff"/>
                  </a:solidFill>
                  <a:latin typeface="宋体"/>
                </a:rPr>
                <a:t>单位阶跃信号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激励下的响应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组合 2"/>
          <p:cNvGrpSpPr/>
          <p:nvPr/>
        </p:nvGrpSpPr>
        <p:grpSpPr>
          <a:xfrm>
            <a:off x="2914560" y="693720"/>
            <a:ext cx="4037040" cy="687240"/>
            <a:chOff x="2914560" y="693720"/>
            <a:chExt cx="4037040" cy="687240"/>
          </a:xfrm>
        </p:grpSpPr>
        <p:sp>
          <p:nvSpPr>
            <p:cNvPr id="659" name="椭圆 9"/>
            <p:cNvSpPr/>
            <p:nvPr/>
          </p:nvSpPr>
          <p:spPr>
            <a:xfrm>
              <a:off x="2914560" y="693720"/>
              <a:ext cx="1338120" cy="687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椭圆 11"/>
            <p:cNvSpPr/>
            <p:nvPr/>
          </p:nvSpPr>
          <p:spPr>
            <a:xfrm>
              <a:off x="5147640" y="693720"/>
              <a:ext cx="1803960" cy="687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1" name="图片 13" descr=""/>
          <p:cNvPicPr/>
          <p:nvPr/>
        </p:nvPicPr>
        <p:blipFill>
          <a:blip r:embed="rId1"/>
          <a:stretch/>
        </p:blipFill>
        <p:spPr>
          <a:xfrm>
            <a:off x="826920" y="1779480"/>
            <a:ext cx="3426120" cy="202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2" name="对象 19"/>
          <p:cNvGraphicFramePr/>
          <p:nvPr/>
        </p:nvGraphicFramePr>
        <p:xfrm>
          <a:off x="1474920" y="3867120"/>
          <a:ext cx="1158840" cy="4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对象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4920" y="3867120"/>
                    <a:ext cx="1158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椭圆 22"/>
          <p:cNvSpPr/>
          <p:nvPr/>
        </p:nvSpPr>
        <p:spPr>
          <a:xfrm>
            <a:off x="2844720" y="2316240"/>
            <a:ext cx="1339920" cy="9856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椭圆 23"/>
          <p:cNvSpPr/>
          <p:nvPr/>
        </p:nvSpPr>
        <p:spPr>
          <a:xfrm>
            <a:off x="395280" y="2355840"/>
            <a:ext cx="1339920" cy="9874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6" name="对象 24"/>
          <p:cNvGraphicFramePr/>
          <p:nvPr/>
        </p:nvGraphicFramePr>
        <p:xfrm>
          <a:off x="1474920" y="4371840"/>
          <a:ext cx="1358640" cy="37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7" name="对象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4920" y="4371840"/>
                    <a:ext cx="1358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8" name="组合 6"/>
          <p:cNvGrpSpPr/>
          <p:nvPr/>
        </p:nvGrpSpPr>
        <p:grpSpPr>
          <a:xfrm>
            <a:off x="7093080" y="1708200"/>
            <a:ext cx="1439640" cy="1149480"/>
            <a:chOff x="7093080" y="1708200"/>
            <a:chExt cx="1439640" cy="1149480"/>
          </a:xfrm>
        </p:grpSpPr>
        <p:sp>
          <p:nvSpPr>
            <p:cNvPr id="669" name="爆炸形 2 37"/>
            <p:cNvSpPr/>
            <p:nvPr/>
          </p:nvSpPr>
          <p:spPr>
            <a:xfrm>
              <a:off x="7093080" y="1708200"/>
              <a:ext cx="1439640" cy="1149480"/>
            </a:xfrm>
            <a:prstGeom prst="irregularSeal2">
              <a:avLst/>
            </a:prstGeom>
            <a:noFill/>
            <a:ln w="19080">
              <a:solidFill>
                <a:srgbClr val="0070c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0" name="对象 29"/>
            <p:cNvGraphicFramePr/>
            <p:nvPr/>
          </p:nvGraphicFramePr>
          <p:xfrm>
            <a:off x="7308720" y="2023920"/>
            <a:ext cx="963360" cy="585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1" name="对象 2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308720" y="2023920"/>
                      <a:ext cx="963360" cy="58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2" name="组合 4"/>
          <p:cNvGrpSpPr/>
          <p:nvPr/>
        </p:nvGrpSpPr>
        <p:grpSpPr>
          <a:xfrm>
            <a:off x="4060800" y="2073240"/>
            <a:ext cx="3071520" cy="520560"/>
            <a:chOff x="4060800" y="2073240"/>
            <a:chExt cx="3071520" cy="520560"/>
          </a:xfrm>
        </p:grpSpPr>
        <p:graphicFrame>
          <p:nvGraphicFramePr>
            <p:cNvPr id="673" name="对象 27"/>
            <p:cNvGraphicFramePr/>
            <p:nvPr/>
          </p:nvGraphicFramePr>
          <p:xfrm>
            <a:off x="4060800" y="2144160"/>
            <a:ext cx="603000" cy="377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74" name="对象 27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060800" y="2144160"/>
                      <a:ext cx="60300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5" name="文本框 35"/>
            <p:cNvSpPr/>
            <p:nvPr/>
          </p:nvSpPr>
          <p:spPr>
            <a:xfrm>
              <a:off x="5068440" y="2073240"/>
              <a:ext cx="206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阶跃响应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s(t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燕尾形箭头 38"/>
            <p:cNvSpPr/>
            <p:nvPr/>
          </p:nvSpPr>
          <p:spPr>
            <a:xfrm>
              <a:off x="4779720" y="2175840"/>
              <a:ext cx="215640" cy="290160"/>
            </a:xfrm>
            <a:custGeom>
              <a:avLst/>
              <a:gdLst>
                <a:gd name="textAreaLeft" fmla="*/ 54000 w 215640"/>
                <a:gd name="textAreaRight" fmla="*/ 162000 w 215640"/>
                <a:gd name="textAreaTop" fmla="*/ 72360 h 290160"/>
                <a:gd name="textAreaBottom" fmla="*/ 217800 h 29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0" y="16200"/>
                  </a:lnTo>
                  <a:lnTo>
                    <a:pt x="54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组合 7"/>
          <p:cNvGrpSpPr/>
          <p:nvPr/>
        </p:nvGrpSpPr>
        <p:grpSpPr>
          <a:xfrm>
            <a:off x="7021440" y="2860560"/>
            <a:ext cx="1440000" cy="1150920"/>
            <a:chOff x="7021440" y="2860560"/>
            <a:chExt cx="1440000" cy="1150920"/>
          </a:xfrm>
        </p:grpSpPr>
        <p:graphicFrame>
          <p:nvGraphicFramePr>
            <p:cNvPr id="678" name="对象 33"/>
            <p:cNvGraphicFramePr/>
            <p:nvPr/>
          </p:nvGraphicFramePr>
          <p:xfrm>
            <a:off x="7309080" y="3220560"/>
            <a:ext cx="736560" cy="505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79" name="对象 33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09080" y="3220560"/>
                      <a:ext cx="736560" cy="5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0" name="爆炸形 2 39"/>
            <p:cNvSpPr/>
            <p:nvPr/>
          </p:nvSpPr>
          <p:spPr>
            <a:xfrm>
              <a:off x="7021440" y="2860560"/>
              <a:ext cx="1440000" cy="1150920"/>
            </a:xfrm>
            <a:prstGeom prst="irregularSeal2">
              <a:avLst/>
            </a:prstGeom>
            <a:noFill/>
            <a:ln w="19080">
              <a:solidFill>
                <a:srgbClr val="0070c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组合 5"/>
          <p:cNvGrpSpPr/>
          <p:nvPr/>
        </p:nvGrpSpPr>
        <p:grpSpPr>
          <a:xfrm>
            <a:off x="4130640" y="3222720"/>
            <a:ext cx="2928600" cy="520560"/>
            <a:chOff x="4130640" y="3222720"/>
            <a:chExt cx="2928600" cy="520560"/>
          </a:xfrm>
        </p:grpSpPr>
        <p:graphicFrame>
          <p:nvGraphicFramePr>
            <p:cNvPr id="682" name="对象 31"/>
            <p:cNvGraphicFramePr/>
            <p:nvPr/>
          </p:nvGraphicFramePr>
          <p:xfrm>
            <a:off x="4130640" y="3295440"/>
            <a:ext cx="428760" cy="378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83" name="对象 31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130640" y="3295440"/>
                      <a:ext cx="42876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4" name="文本框 36"/>
            <p:cNvSpPr/>
            <p:nvPr/>
          </p:nvSpPr>
          <p:spPr>
            <a:xfrm>
              <a:off x="4995360" y="3222720"/>
              <a:ext cx="206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阶跃响应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s(t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燕尾形箭头 40"/>
            <p:cNvSpPr/>
            <p:nvPr/>
          </p:nvSpPr>
          <p:spPr>
            <a:xfrm>
              <a:off x="4811400" y="3318120"/>
              <a:ext cx="216000" cy="290160"/>
            </a:xfrm>
            <a:custGeom>
              <a:avLst/>
              <a:gdLst>
                <a:gd name="textAreaLeft" fmla="*/ 54000 w 216000"/>
                <a:gd name="textAreaRight" fmla="*/ 162000 w 216000"/>
                <a:gd name="textAreaTop" fmla="*/ 72360 h 290160"/>
                <a:gd name="textAreaBottom" fmla="*/ 217800 h 29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0800" y="5400"/>
                  </a:ln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16200"/>
                  </a:lnTo>
                  <a:lnTo>
                    <a:pt x="0" y="16200"/>
                  </a:lnTo>
                  <a:lnTo>
                    <a:pt x="54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文本框 3"/>
          <p:cNvSpPr/>
          <p:nvPr/>
        </p:nvSpPr>
        <p:spPr>
          <a:xfrm>
            <a:off x="1147320" y="1479600"/>
            <a:ext cx="312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下图中单位阶跃响应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4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爆炸形 2 37"/>
          <p:cNvSpPr/>
          <p:nvPr/>
        </p:nvSpPr>
        <p:spPr>
          <a:xfrm>
            <a:off x="4294080" y="774720"/>
            <a:ext cx="1440000" cy="1150920"/>
          </a:xfrm>
          <a:prstGeom prst="irregularSeal2">
            <a:avLst/>
          </a:prstGeom>
          <a:noFill/>
          <a:ln w="19080">
            <a:solidFill>
              <a:srgbClr val="0070c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对象 19"/>
          <p:cNvGraphicFramePr/>
          <p:nvPr/>
        </p:nvGraphicFramePr>
        <p:xfrm>
          <a:off x="6012000" y="987480"/>
          <a:ext cx="208728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对象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987480"/>
                    <a:ext cx="2087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对象 29"/>
          <p:cNvGraphicFramePr/>
          <p:nvPr/>
        </p:nvGraphicFramePr>
        <p:xfrm>
          <a:off x="4510080" y="1092240"/>
          <a:ext cx="96516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对象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0080" y="1092240"/>
                    <a:ext cx="9651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文本框 35"/>
          <p:cNvSpPr/>
          <p:nvPr/>
        </p:nvSpPr>
        <p:spPr>
          <a:xfrm>
            <a:off x="4356000" y="19512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利用三要素法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阶跃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对象 2"/>
          <p:cNvGraphicFramePr/>
          <p:nvPr/>
        </p:nvGraphicFramePr>
        <p:xfrm>
          <a:off x="6012000" y="1635120"/>
          <a:ext cx="213984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4" name="对象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635120"/>
                    <a:ext cx="21398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对象 5"/>
          <p:cNvGraphicFramePr/>
          <p:nvPr/>
        </p:nvGraphicFramePr>
        <p:xfrm>
          <a:off x="6012000" y="2211480"/>
          <a:ext cx="955440" cy="30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6" name="对象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2000" y="2211480"/>
                    <a:ext cx="9554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对象 7"/>
          <p:cNvGraphicFramePr/>
          <p:nvPr/>
        </p:nvGraphicFramePr>
        <p:xfrm>
          <a:off x="1195560" y="2571840"/>
          <a:ext cx="4365360" cy="85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8" name="对象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5560" y="2571840"/>
                    <a:ext cx="436536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椭圆 12"/>
          <p:cNvSpPr/>
          <p:nvPr/>
        </p:nvSpPr>
        <p:spPr>
          <a:xfrm>
            <a:off x="4903920" y="2728800"/>
            <a:ext cx="830160" cy="792360"/>
          </a:xfrm>
          <a:prstGeom prst="ellipse">
            <a:avLst/>
          </a:prstGeom>
          <a:noFill/>
          <a:ln w="19080">
            <a:solidFill>
              <a:srgbClr val="3333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文本框 14"/>
          <p:cNvSpPr/>
          <p:nvPr/>
        </p:nvSpPr>
        <p:spPr>
          <a:xfrm>
            <a:off x="4282920" y="394020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ff"/>
                </a:solidFill>
                <a:latin typeface="宋体"/>
              </a:rPr>
              <a:t>清楚表明整个时间域的响应，无须再标注</a:t>
            </a:r>
            <a:r>
              <a:rPr b="0" i="1" lang="en-US" sz="2000" spc="-1" strike="noStrike">
                <a:solidFill>
                  <a:srgbClr val="3333ff"/>
                </a:solidFill>
                <a:latin typeface="宋体"/>
              </a:rPr>
              <a:t>t</a:t>
            </a:r>
            <a:r>
              <a:rPr b="0" i="1" lang="zh-CN" sz="2000" spc="-1" strike="noStrike">
                <a:solidFill>
                  <a:srgbClr val="3333ff"/>
                </a:solidFill>
                <a:latin typeface="宋体"/>
              </a:rPr>
              <a:t>的范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图片 13" descr=""/>
          <p:cNvPicPr/>
          <p:nvPr/>
        </p:nvPicPr>
        <p:blipFill>
          <a:blip r:embed="rId11"/>
          <a:stretch/>
        </p:blipFill>
        <p:spPr>
          <a:xfrm>
            <a:off x="466560" y="358920"/>
            <a:ext cx="3427560" cy="20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爆炸形 2 37"/>
          <p:cNvSpPr/>
          <p:nvPr/>
        </p:nvSpPr>
        <p:spPr>
          <a:xfrm>
            <a:off x="4294080" y="774720"/>
            <a:ext cx="1440000" cy="1150920"/>
          </a:xfrm>
          <a:prstGeom prst="irregularSeal2">
            <a:avLst/>
          </a:prstGeom>
          <a:noFill/>
          <a:ln w="19080">
            <a:solidFill>
              <a:srgbClr val="0070c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图片 13" descr=""/>
          <p:cNvPicPr/>
          <p:nvPr/>
        </p:nvPicPr>
        <p:blipFill>
          <a:blip r:embed="rId1"/>
          <a:stretch/>
        </p:blipFill>
        <p:spPr>
          <a:xfrm>
            <a:off x="466560" y="358920"/>
            <a:ext cx="3427560" cy="20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4" name="对象 19"/>
          <p:cNvGraphicFramePr/>
          <p:nvPr/>
        </p:nvGraphicFramePr>
        <p:xfrm>
          <a:off x="5867280" y="987480"/>
          <a:ext cx="2092320" cy="4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5" name="对象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987480"/>
                    <a:ext cx="20923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对象 29"/>
          <p:cNvGraphicFramePr/>
          <p:nvPr/>
        </p:nvGraphicFramePr>
        <p:xfrm>
          <a:off x="4510080" y="1092240"/>
          <a:ext cx="755640" cy="51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7" name="对象 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10080" y="1092240"/>
                    <a:ext cx="7556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文本框 35"/>
          <p:cNvSpPr/>
          <p:nvPr/>
        </p:nvSpPr>
        <p:spPr>
          <a:xfrm>
            <a:off x="4356000" y="19512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利用三要素法求阶跃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对象 2"/>
          <p:cNvGraphicFramePr/>
          <p:nvPr/>
        </p:nvGraphicFramePr>
        <p:xfrm>
          <a:off x="5867280" y="2139840"/>
          <a:ext cx="908280" cy="363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0" name="对象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67280" y="2139840"/>
                    <a:ext cx="908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对象 5"/>
          <p:cNvGraphicFramePr/>
          <p:nvPr/>
        </p:nvGraphicFramePr>
        <p:xfrm>
          <a:off x="5867280" y="2571840"/>
          <a:ext cx="955800" cy="301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2" name="对象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2571840"/>
                    <a:ext cx="95580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对象 7"/>
          <p:cNvGraphicFramePr/>
          <p:nvPr/>
        </p:nvGraphicFramePr>
        <p:xfrm>
          <a:off x="4262400" y="3147840"/>
          <a:ext cx="3340080" cy="792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4" name="对象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62400" y="3147840"/>
                    <a:ext cx="33400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椭圆 12"/>
          <p:cNvSpPr/>
          <p:nvPr/>
        </p:nvSpPr>
        <p:spPr>
          <a:xfrm>
            <a:off x="6670800" y="3278160"/>
            <a:ext cx="830160" cy="790560"/>
          </a:xfrm>
          <a:prstGeom prst="ellipse">
            <a:avLst/>
          </a:prstGeom>
          <a:noFill/>
          <a:ln w="19080">
            <a:solidFill>
              <a:srgbClr val="3333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对象 1"/>
          <p:cNvGraphicFramePr/>
          <p:nvPr/>
        </p:nvGraphicFramePr>
        <p:xfrm>
          <a:off x="5867280" y="1563840"/>
          <a:ext cx="1739880" cy="388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7" name="对象 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1563840"/>
                    <a:ext cx="17398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矩形 9"/>
          <p:cNvSpPr/>
          <p:nvPr/>
        </p:nvSpPr>
        <p:spPr>
          <a:xfrm>
            <a:off x="2513160" y="1131840"/>
            <a:ext cx="1412640" cy="10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直接连接符 8"/>
          <p:cNvSpPr/>
          <p:nvPr/>
        </p:nvSpPr>
        <p:spPr>
          <a:xfrm flipH="1">
            <a:off x="3071520" y="1131840"/>
            <a:ext cx="2052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组合 8"/>
          <p:cNvGrpSpPr/>
          <p:nvPr/>
        </p:nvGrpSpPr>
        <p:grpSpPr>
          <a:xfrm>
            <a:off x="981000" y="1359000"/>
            <a:ext cx="655560" cy="431640"/>
            <a:chOff x="981000" y="1359000"/>
            <a:chExt cx="655560" cy="431640"/>
          </a:xfrm>
        </p:grpSpPr>
        <p:sp>
          <p:nvSpPr>
            <p:cNvPr id="721" name="圆角矩形 6"/>
            <p:cNvSpPr/>
            <p:nvPr/>
          </p:nvSpPr>
          <p:spPr>
            <a:xfrm>
              <a:off x="981000" y="1359360"/>
              <a:ext cx="648000" cy="43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2" name="对象 3"/>
            <p:cNvGraphicFramePr/>
            <p:nvPr/>
          </p:nvGraphicFramePr>
          <p:xfrm>
            <a:off x="981000" y="1359000"/>
            <a:ext cx="655560" cy="3880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23" name="对象 3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981000" y="1359000"/>
                      <a:ext cx="655560" cy="38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24" name="组合 16" descr=""/>
          <p:cNvPicPr/>
          <p:nvPr/>
        </p:nvPicPr>
        <p:blipFill>
          <a:blip r:embed="rId16"/>
          <a:stretch/>
        </p:blipFill>
        <p:spPr>
          <a:xfrm>
            <a:off x="2341440" y="378000"/>
            <a:ext cx="646200" cy="42696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26"/>
          <p:cNvGrpSpPr/>
          <p:nvPr/>
        </p:nvGrpSpPr>
        <p:grpSpPr>
          <a:xfrm>
            <a:off x="539640" y="2787480"/>
            <a:ext cx="7952400" cy="2120760"/>
            <a:chOff x="539640" y="2787480"/>
            <a:chExt cx="7952400" cy="2120760"/>
          </a:xfrm>
        </p:grpSpPr>
        <p:grpSp>
          <p:nvGrpSpPr>
            <p:cNvPr id="726" name="Group 23"/>
            <p:cNvGrpSpPr/>
            <p:nvPr/>
          </p:nvGrpSpPr>
          <p:grpSpPr>
            <a:xfrm>
              <a:off x="539640" y="4011480"/>
              <a:ext cx="6091200" cy="896760"/>
              <a:chOff x="539640" y="4011480"/>
              <a:chExt cx="6091200" cy="896760"/>
            </a:xfrm>
          </p:grpSpPr>
          <p:sp>
            <p:nvSpPr>
              <p:cNvPr id="727" name="Text Box 18"/>
              <p:cNvSpPr/>
              <p:nvPr/>
            </p:nvSpPr>
            <p:spPr>
              <a:xfrm>
                <a:off x="539640" y="4032360"/>
                <a:ext cx="297324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如果</a:t>
                </a:r>
                <a:r>
                  <a:rPr b="0" i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99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99"/>
                    </a:solidFill>
                    <a:latin typeface="Times New Roman"/>
                  </a:rPr>
                  <a:t>)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变为：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28" name="对象 27"/>
              <p:cNvGraphicFramePr/>
              <p:nvPr/>
            </p:nvGraphicFramePr>
            <p:xfrm>
              <a:off x="3224160" y="4011480"/>
              <a:ext cx="2090520" cy="51444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729" name="对象 27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3224160" y="4011480"/>
                        <a:ext cx="2090520" cy="51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30" name="对象 32"/>
              <p:cNvGraphicFramePr/>
              <p:nvPr/>
            </p:nvGraphicFramePr>
            <p:xfrm>
              <a:off x="3224160" y="4371840"/>
              <a:ext cx="3406680" cy="51912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731" name="对象 32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3224160" y="4371840"/>
                        <a:ext cx="3406680" cy="519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732" name="Picture 24" descr=""/>
            <p:cNvPicPr/>
            <p:nvPr/>
          </p:nvPicPr>
          <p:blipFill>
            <a:blip r:embed="rId21"/>
            <a:stretch/>
          </p:blipFill>
          <p:spPr>
            <a:xfrm>
              <a:off x="611280" y="2787480"/>
              <a:ext cx="128088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Text Box 25"/>
            <p:cNvSpPr/>
            <p:nvPr/>
          </p:nvSpPr>
          <p:spPr>
            <a:xfrm>
              <a:off x="6509880" y="4084560"/>
              <a:ext cx="198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响应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变为多少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4" name="对象 7"/>
          <p:cNvGraphicFramePr/>
          <p:nvPr/>
        </p:nvGraphicFramePr>
        <p:xfrm>
          <a:off x="4322880" y="955800"/>
          <a:ext cx="334008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5" name="对象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2880" y="955800"/>
                    <a:ext cx="33400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文本框 11"/>
          <p:cNvSpPr/>
          <p:nvPr/>
        </p:nvSpPr>
        <p:spPr>
          <a:xfrm>
            <a:off x="900360" y="235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线性时不变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对象 16"/>
          <p:cNvGraphicFramePr/>
          <p:nvPr/>
        </p:nvGraphicFramePr>
        <p:xfrm>
          <a:off x="650880" y="1243080"/>
          <a:ext cx="139716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8" name="对象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880" y="1243080"/>
                    <a:ext cx="13971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右箭头 18"/>
          <p:cNvSpPr/>
          <p:nvPr/>
        </p:nvSpPr>
        <p:spPr>
          <a:xfrm>
            <a:off x="3313080" y="1407960"/>
            <a:ext cx="433440" cy="182880"/>
          </a:xfrm>
          <a:prstGeom prst="rightArrow">
            <a:avLst>
              <a:gd name="adj1" fmla="val 50000"/>
              <a:gd name="adj2" fmla="val 50199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对象 25"/>
          <p:cNvGraphicFramePr/>
          <p:nvPr/>
        </p:nvGraphicFramePr>
        <p:xfrm>
          <a:off x="4322880" y="2664000"/>
          <a:ext cx="464508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1" name="对象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2880" y="2664000"/>
                    <a:ext cx="464508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对象 27"/>
          <p:cNvGraphicFramePr/>
          <p:nvPr/>
        </p:nvGraphicFramePr>
        <p:xfrm>
          <a:off x="314280" y="2938320"/>
          <a:ext cx="209232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3" name="对象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280" y="2938320"/>
                    <a:ext cx="20923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右箭头 31"/>
          <p:cNvSpPr/>
          <p:nvPr/>
        </p:nvSpPr>
        <p:spPr>
          <a:xfrm>
            <a:off x="3346560" y="3187800"/>
            <a:ext cx="433440" cy="183960"/>
          </a:xfrm>
          <a:prstGeom prst="rightArrow">
            <a:avLst>
              <a:gd name="adj1" fmla="val 50000"/>
              <a:gd name="adj2" fmla="val 49905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5" name="对象 32"/>
          <p:cNvGraphicFramePr/>
          <p:nvPr/>
        </p:nvGraphicFramePr>
        <p:xfrm>
          <a:off x="223920" y="4011480"/>
          <a:ext cx="344016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6" name="对象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3920" y="4011480"/>
                    <a:ext cx="34401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右箭头 34"/>
          <p:cNvSpPr/>
          <p:nvPr/>
        </p:nvSpPr>
        <p:spPr>
          <a:xfrm>
            <a:off x="3780000" y="4156200"/>
            <a:ext cx="431640" cy="183960"/>
          </a:xfrm>
          <a:prstGeom prst="rightArrow">
            <a:avLst>
              <a:gd name="adj1" fmla="val 50000"/>
              <a:gd name="adj2" fmla="val 4969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对象 36"/>
          <p:cNvGraphicFramePr/>
          <p:nvPr/>
        </p:nvGraphicFramePr>
        <p:xfrm>
          <a:off x="4354560" y="3989520"/>
          <a:ext cx="3511440" cy="51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9" name="对象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4560" y="3989520"/>
                    <a:ext cx="35114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0" name="组合 41"/>
          <p:cNvGrpSpPr/>
          <p:nvPr/>
        </p:nvGrpSpPr>
        <p:grpSpPr>
          <a:xfrm>
            <a:off x="838080" y="4587840"/>
            <a:ext cx="1865520" cy="531360"/>
            <a:chOff x="838080" y="4587840"/>
            <a:chExt cx="1865520" cy="531360"/>
          </a:xfrm>
        </p:grpSpPr>
        <p:sp>
          <p:nvSpPr>
            <p:cNvPr id="751" name="文本框 39"/>
            <p:cNvSpPr/>
            <p:nvPr/>
          </p:nvSpPr>
          <p:spPr>
            <a:xfrm>
              <a:off x="966960" y="4659480"/>
              <a:ext cx="15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是常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圆角矩形标注 40"/>
            <p:cNvSpPr/>
            <p:nvPr/>
          </p:nvSpPr>
          <p:spPr>
            <a:xfrm rot="10800000">
              <a:off x="838080" y="4587840"/>
              <a:ext cx="1865520" cy="50400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noFill/>
            <a:ln w="19080">
              <a:solidFill>
                <a:srgbClr val="3333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Text Box 21"/>
          <p:cNvSpPr/>
          <p:nvPr/>
        </p:nvSpPr>
        <p:spPr>
          <a:xfrm>
            <a:off x="684360" y="666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激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2"/>
          <p:cNvSpPr/>
          <p:nvPr/>
        </p:nvSpPr>
        <p:spPr>
          <a:xfrm>
            <a:off x="5364000" y="5954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5" name="对象 28"/>
          <p:cNvGraphicFramePr/>
          <p:nvPr/>
        </p:nvGraphicFramePr>
        <p:xfrm>
          <a:off x="4322880" y="1712880"/>
          <a:ext cx="382248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6" name="对象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22880" y="1712880"/>
                    <a:ext cx="38224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对象 29"/>
          <p:cNvGraphicFramePr/>
          <p:nvPr/>
        </p:nvGraphicFramePr>
        <p:xfrm>
          <a:off x="690480" y="2019240"/>
          <a:ext cx="1670040" cy="514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8" name="对象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0480" y="2019240"/>
                    <a:ext cx="16700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右箭头 18"/>
          <p:cNvSpPr/>
          <p:nvPr/>
        </p:nvSpPr>
        <p:spPr>
          <a:xfrm>
            <a:off x="3346560" y="2122560"/>
            <a:ext cx="433440" cy="182520"/>
          </a:xfrm>
          <a:prstGeom prst="rightArrow">
            <a:avLst>
              <a:gd name="adj1" fmla="val 50000"/>
              <a:gd name="adj2" fmla="val 50299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3:31:00Z</dcterms:created>
  <dc:creator>shyl</dc:creator>
  <dc:description/>
  <cp:keywords/>
  <dc:language>en-US</dc:language>
  <cp:lastModifiedBy>Qu Ke</cp:lastModifiedBy>
  <dcterms:modified xsi:type="dcterms:W3CDTF">2020-04-08T06:00:50Z</dcterms:modified>
  <cp:revision>11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99</vt:lpwstr>
  </property>
</Properties>
</file>